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1AA3-14C1-4B04-8423-87C382AA0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BDD8-048E-437C-B419-902775B20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ED981-A5AA-4311-A490-A3B64BBA7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3B33-116C-4A08-B5F6-0FD828CB3C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C07E-D880-40ED-B1B9-B2B9FF5FE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0D2C-20ED-43A3-AFD6-EAA42B312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2A856-55E7-4544-A7BC-415238993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B0B8-76EE-45CA-8681-66ED11461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3A8A-B116-4EC2-8E40-7C12DB850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C9A2E-95D0-4812-ADCD-3EE7F455E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330BB-13F5-4E9F-9454-BED63DE77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18A9-EC69-4FB3-A27D-369ACF193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6A64-FA13-4E80-8EF9-4DB3804AF0B7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MPO%20logo%20RGB200dpi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mailto:sedlak@mpo.cz" TargetMode="External"/><Relationship Id="rId3" Type="http://schemas.openxmlformats.org/officeDocument/2006/relationships/hyperlink" Target="mailto:sedlak@mpo.cz" TargetMode="External"/><Relationship Id="rId4" Type="http://schemas.openxmlformats.org/officeDocument/2006/relationships/hyperlink" Target="mailto:sedlak@mpo.cz" TargetMode="External"/><Relationship Id="rId5" Type="http://schemas.openxmlformats.org/officeDocument/2006/relationships/hyperlink" Target="mailto:sedlak@mpo.cz" TargetMode="External"/><Relationship Id="rId6" Type="http://schemas.openxmlformats.org/officeDocument/2006/relationships/hyperlink" Target="http://www.mpo.cz/" TargetMode="External"/><Relationship Id="rId7" Type="http://schemas.openxmlformats.org/officeDocument/2006/relationships/hyperlink" Target="http://www.mpo.cz/" TargetMode="External"/><Relationship Id="rId8" Type="http://schemas.openxmlformats.org/officeDocument/2006/relationships/hyperlink" Target="http://www.mpo.cz/" TargetMode="External"/><Relationship Id="rId9" Type="http://schemas.openxmlformats.org/officeDocument/2006/relationships/hyperlink" Target="http://www.mpo.cz/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mits.esa.int/emits/owa/emits.main" TargetMode="External"/><Relationship Id="rId2" Type="http://schemas.openxmlformats.org/officeDocument/2006/relationships/hyperlink" Target="http://www.esa.int/home-ind/" TargetMode="External"/><Relationship Id="rId3" Type="http://schemas.openxmlformats.org/officeDocument/2006/relationships/hyperlink" Target="mailto:idhelp@esa.int" TargetMode="External"/><Relationship Id="rId4" Type="http://schemas.openxmlformats.org/officeDocument/2006/relationships/hyperlink" Target="mailto:idhelp@esa.int" TargetMode="External"/><Relationship Id="rId5" Type="http://schemas.openxmlformats.org/officeDocument/2006/relationships/hyperlink" Target="mailto:idhelp@esa.in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mits.esa.int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PO%20logo%20RGB200dpi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yžadované informace jsou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děleny podle typu firmy: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Industrial Firm (průmyslová firma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ervice Firm (služb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Non-Profit Organisation (nezisková organiz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ther (dalš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lavní informace: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A, B a D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ntity Identification (Identifik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Executice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fficial Registration (Oficiální registr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generál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AT </a:t>
            </a:r>
            <a:r>
              <a:rPr b="1" lang="en-US" sz="16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 Social Security Numbers 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Financial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rganisation Chart (organizační tabulka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finanč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stablishments (ustanoven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pace Business Manager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manažer vesmírných obchodů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C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Institution / Dean (ředitel instituce / děkan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Administration (ředitel administr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Responsible for Space Activities (odpovědná osoba za vesmírné aktivit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241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4492" t="12367" r="17399" b="54567"/>
          <a:stretch/>
        </p:blipFill>
        <p:spPr>
          <a:xfrm>
            <a:off x="4343400" y="1066680"/>
            <a:ext cx="449568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C495-4D6D-4B1A-867B-B60E4B1C10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avidla pro všechny stejná v oblastech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ktivity / Projekty / Produkty a Servi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aff </a:t>
            </a:r>
            <a:r>
              <a:rPr b="1" lang="en-US" sz="18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Facilities (zařízení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ey Financial Figures (klíčová finanční tabulk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Ownership: (vlastnictví, pouze A,B a D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ructural Relations (struktur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Working Relations (pracov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rm Shareholder (akcionáři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ubsidiary (podpor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hievements: (pouze C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Activities (vesmírné aktivi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Projects (vesmírné projek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tivities not related to Space (aktivity bez zaměření na vesmír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50A4-E92C-495C-A279-6E278CA1A1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1 Tipy pro registraci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jprve si předčtěte dokumentaci na průmyslovém portál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vstupte do systému a uložte si PIN nebo ID/PW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uveďte typ organizace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likněte na “View All“ a vytiskněte si dotazní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volte si svého koordinátor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oordinujte interní dat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ačněte vyplňovat elektronický dotazník pouze pokud budete mít 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šechna data zkompletizován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dvakrát zkontrolujte místa označená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*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zapomeňte na pravidelné připojení (důležité k ověření platnosti)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buďte opatrní na informace, které obdržíte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851D-00BB-4620-8417-C72ADC0AC5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2 Časté chyb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ředstava že aktualizace vaší práce je ztracena při pohledu do View módu: musíte přejít do Edit mód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yplnění pouze 2 ze 3 polí u kontaktů: musí být vyplněno country code (číslo státu), area code (číslo oblasti), number (vlastní číslo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“None“ nebo NA pokud je vyžadován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nebo nevložení funkce v kartě busines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2 dny před vypršením projekt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speciální registrace pro laboratoře, univerzity, úřad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8F07-7D49-409A-A374-F327A4CC2C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jednoduchá procedura zavolat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ESA-Mr Verdin tel: +331 5369 7119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uvedení důležitých informací jako jméno, kontakt a emailové adresy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pro sublevels bude vytvořen kód ESABD pro doplnění dalších kontaktních informac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59C4-9C6E-4F54-AE9F-A3D0E109D1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1721" t="9376" r="21093" b="13540"/>
          <a:stretch/>
        </p:blipFill>
        <p:spPr>
          <a:xfrm>
            <a:off x="1752480" y="1447920"/>
            <a:ext cx="5715000" cy="48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7379E-C75C-4491-8B14-D2BA57D604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1721" t="12502" r="21876" b="21878"/>
          <a:stretch/>
        </p:blipFill>
        <p:spPr>
          <a:xfrm>
            <a:off x="1371600" y="1447920"/>
            <a:ext cx="64771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1012-80CA-4A39-813E-3586379A37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811" t="9376" r="25782" b="12502"/>
          <a:stretch/>
        </p:blipFill>
        <p:spPr>
          <a:xfrm>
            <a:off x="1752480" y="1447920"/>
            <a:ext cx="5410440" cy="47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C89E-11A2-4DD2-9623-E184DACE2F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2500" t="10420" r="13282" b="17709"/>
          <a:stretch/>
        </p:blipFill>
        <p:spPr>
          <a:xfrm>
            <a:off x="990720" y="1143000"/>
            <a:ext cx="72388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3958-85F3-4DE3-8FFA-A97399F7A4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0938" t="11458" r="12500" b="21878"/>
          <a:stretch/>
        </p:blipFill>
        <p:spPr>
          <a:xfrm>
            <a:off x="685800" y="1219320"/>
            <a:ext cx="74674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3A9A-8B8F-40A7-B7F8-71F5359DA9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600"/>
            </a:b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MPO%20logo%20RGB200dpi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721" t="18753" r="11721" b="20835"/>
          <a:stretch/>
        </p:blipFill>
        <p:spPr>
          <a:xfrm>
            <a:off x="762120" y="1219320"/>
            <a:ext cx="746748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1E70-7AA9-4865-971A-D8FD7AD22C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8594" t="11458" r="10938" b="17709"/>
          <a:stretch/>
        </p:blipFill>
        <p:spPr>
          <a:xfrm>
            <a:off x="457200" y="1143000"/>
            <a:ext cx="78487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F3AC5-9E72-4B71-A33A-E81D12AC8C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9376" t="17709" r="9376" b="20835"/>
          <a:stretch/>
        </p:blipFill>
        <p:spPr>
          <a:xfrm>
            <a:off x="609480" y="1447920"/>
            <a:ext cx="792504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CD63-D066-4F56-8B7C-35E449DDA6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7811" t="28124" r="9376" b="25004"/>
          <a:stretch/>
        </p:blipFill>
        <p:spPr>
          <a:xfrm>
            <a:off x="457200" y="1828800"/>
            <a:ext cx="80773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297B-1169-4CB4-9DC6-3AA51C25AF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3282" t="10420" r="13282" b="16666"/>
          <a:stretch/>
        </p:blipFill>
        <p:spPr>
          <a:xfrm>
            <a:off x="990720" y="1219320"/>
            <a:ext cx="662940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1A8C4-F7AC-4953-9015-EBF66FAB38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ne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0155" t="10420" r="10938" b="18753"/>
          <a:stretch/>
        </p:blipFill>
        <p:spPr>
          <a:xfrm>
            <a:off x="609480" y="1066680"/>
            <a:ext cx="7696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8F6E-37AC-4D52-B90B-3E33875B8E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3808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8594" t="9376" r="10155" b="20835"/>
          <a:stretch/>
        </p:blipFill>
        <p:spPr>
          <a:xfrm>
            <a:off x="533520" y="1143000"/>
            <a:ext cx="792468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280C-D578-491A-81D5-5C17C1FF0C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400"/>
            </a:b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   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F2F3-E48E-4BF5-A660-94F2B10F51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Obsah: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oč se registrovat do EMITS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ontakt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lozofie registračního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de mohu začít?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1 Nový žadatel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2 Stávající uživatel 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3 Co je důležité na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4 Obsah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gistra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1 Tipy pro registraci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2 Časté chyb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3 Proces registrace neziskových organizací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jstřík registrací v ČR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říklady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0035-84D0-4B58-BBA8-DED2B0BF39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Proč se registrovat do EMITS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individuálního (ESABD) kódu nutného k identifikaci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přístupového jména a hesla k přístupu do ITT informačních balíčků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ravidelné informování o vypisovaných tendrech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ESABD důležité pro další kontrak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FB42D-8423-4DCA-82A3-396FB1674B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Kontak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dresa EMITS: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/emits/owa/emits.main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Detailní informace o registraci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esa.int/home-ind/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odpora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CPOs (procure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Deneuwelaere (RES-PGP)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73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Oppenheimer (RES-PG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40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Reynaud (RES-PG)Head/Office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7161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Finance (pay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fried Erker (RES-FEI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31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Industrial Polic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JL Verdin (RES-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1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ic Guilmet (RES-P)Head/division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34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chnická podpora: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idhelp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@esa.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int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90 6941 80444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dlak@mpo.cz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051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rcRect l="33618" t="13642" r="4964" b="73976"/>
          <a:stretch/>
        </p:blipFill>
        <p:spPr>
          <a:xfrm>
            <a:off x="4419720" y="1905120"/>
            <a:ext cx="353376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C51C-AAD9-480E-87BD-853D303FA3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. Filozofie registračního systému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ficiální registrace: ESA chce mít informace o firmách zabývajících se kosmickým průmyslem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Hlavní informace: potřebné k ověření firem (nemusí docházet k opakovanému prověřování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Kontakty: Esa potřebuje kontakty na řídící orgány u firem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Aktivity: Esa nabízí příležitost registrovaným vytvořit si svou vlastní technologii a marketing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Role EMITS: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zlepšení kvality poskytovaných informa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update dotazník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chrana informací o zákazníkovi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5188-78E8-41F1-AA2C-75DA43D6C3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?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Nový žadatel: “Entity Registration“, obdržíte PIN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620120" cy="42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C639-18B6-44E7-8928-F14A245D6E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Stávající uživatel: “LOGIN“ použijte uživatelské jméno a hesl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3389" t="10169" r="2543" b="24295"/>
          <a:stretch/>
        </p:blipFill>
        <p:spPr>
          <a:xfrm>
            <a:off x="304920" y="1676520"/>
            <a:ext cx="8229600" cy="43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C959-C148-4175-B37A-FF5B578037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3 Co je důležité na systému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umožní přistup k Legal Entitie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 sekci dotazníků je barevné značení a to od </a:t>
            </a:r>
            <a:r>
              <a:rPr b="1" lang="cs-CZ" sz="2400" spc="-1" strike="noStrike">
                <a:solidFill>
                  <a:srgbClr val="00e4a8"/>
                </a:solidFill>
                <a:latin typeface="Times New Roman"/>
              </a:rPr>
              <a:t>zelené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po </a:t>
            </a:r>
            <a:r>
              <a:rPr b="1" lang="cs-CZ" sz="2400" spc="-1" strike="noStrike">
                <a:solidFill>
                  <a:srgbClr val="ffcf01"/>
                </a:solidFill>
                <a:latin typeface="Times New Roman"/>
              </a:rPr>
              <a:t>žlut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až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červen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do 8 sek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mnoho polí je označeno červenou hvězdou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, tato pole je nutné vypln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! Důležité je ukládat veškeré změny před přechodem do hlavní obrazovky, ukládání může trvat delší dobu, vždy si uložená data zkontrolujte, jinak budou ztracena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57480" t="33086" r="13428" b="46186"/>
          <a:stretch/>
        </p:blipFill>
        <p:spPr>
          <a:xfrm>
            <a:off x="762120" y="3657600"/>
            <a:ext cx="2057400" cy="109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7175" t="35217" r="47850" b="45915"/>
          <a:stretch/>
        </p:blipFill>
        <p:spPr>
          <a:xfrm>
            <a:off x="3886200" y="3733920"/>
            <a:ext cx="3352680" cy="104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3D35-622B-467B-9F6E-49BF5BFB99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7:49:12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16T13:25:40Z</dcterms:modified>
  <cp:revision>25</cp:revision>
  <dc:subject/>
  <dc:title>Prezentace aplikace PowerPoint</dc:title>
</cp:coreProperties>
</file>