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482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F779B-5F54-4916-8ED2-0160C4A27D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10A55-6954-4571-BC63-56DED3D918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29412-750A-4B5B-9B1D-A1940BD8F6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3EE28-E83C-401C-8363-B15E16ED55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E2B52-2A36-471B-8CA2-2DA155DFE6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3CF88-F4F4-4C9A-9530-B3FA96865D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10700-33B5-4681-A341-6DD1E591AC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A5039-B006-430A-9F06-D560C48FD6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3A391-0555-4B4E-BB1C-AD154E0985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578AB-8266-4D9C-ADF6-42B21CF172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46534-68F3-4773-A085-BAA5CD8369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98683-8630-468E-ADD6-D59166386B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619440" y="6224760"/>
            <a:ext cx="190512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0e85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14E1B-439D-499C-804B-3A725C028B22}" type="slidenum">
              <a:rPr b="1" lang="cs-CZ" sz="1400" spc="-1" strike="noStrike">
                <a:solidFill>
                  <a:srgbClr val="0e85c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400800" y="6248520"/>
            <a:ext cx="2590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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2009</a:t>
            </a: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Ministerstvo průmyslu a obchod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2877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e85c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457200" algn="ctr"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sedlak@mpo.cz" TargetMode="External"/><Relationship Id="rId2" Type="http://schemas.openxmlformats.org/officeDocument/2006/relationships/hyperlink" Target="http://www.mpo.cz/" TargetMode="External"/><Relationship Id="rId3" Type="http://schemas.openxmlformats.org/officeDocument/2006/relationships/hyperlink" Target="http://www.mpo.cz/" TargetMode="External"/><Relationship Id="rId4" Type="http://schemas.openxmlformats.org/officeDocument/2006/relationships/hyperlink" Target="http://www.mpo.cz/" TargetMode="External"/><Relationship Id="rId5" Type="http://schemas.openxmlformats.org/officeDocument/2006/relationships/hyperlink" Target="http://www.mpo.cz/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362320" y="2371680"/>
            <a:ext cx="43178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2666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ESA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4038480"/>
            <a:ext cx="5410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Bc. Vladimír Sedl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8480" y="5775840"/>
            <a:ext cx="4134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e85c0"/>
                </a:solidFill>
                <a:latin typeface="Arial"/>
              </a:rPr>
              <a:t>©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 2009 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  <a:ea typeface="SimSun"/>
              </a:rPr>
              <a:t>Minist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erstvo průmyslu a obcho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bsah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258920"/>
            <a:ext cx="853416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1. Výzva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1.1 Pro koho je určena.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1.2 Rozpočet a určení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2. Podmínky a důvody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1A421-E64B-4D18-AE83-683DDA5D4B7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Arial"/>
              </a:rPr>
              <a:t>1. Výzva</a:t>
            </a:r>
            <a:r>
              <a:rPr b="1" lang="cs-CZ" sz="3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Dne 16. března 2009 byla v systému EMITS zveřejněna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Výzva pro podávání návrhů projektových záměrů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v rámci pobídkového programu pro český průmysl (tzv. Czech Republic's Industry Incentive Scheme).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Výzva je určena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pouze pro české firmy, univerzity a výzkumná pracoviště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. Zájemci mohou podat zjednodušené „vlastní i již vyvíjené“ projektové návrhy ze všech technologických oblastí, ve kterých se Evropská kosmická agentura (ESA) angažuje (viz slide 5).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V systému EMITS jsou vypsány další konkrétní tendry určené pro ČR s veškerou specifikací a s datem uzávěrky. Pro podrobnější informace je nutná registrace do systému</a:t>
            </a:r>
            <a:r>
              <a:rPr b="1" lang="cs-CZ" sz="2400" spc="-1" strike="noStrike">
                <a:solidFill>
                  <a:srgbClr val="0e85c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83F57-0043-478D-97D9-499D71929F7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1.1 Pro koho jsou určen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Výzva pro podání projektových záměrů s termínem 15. květen je určena pro: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a)    letový hardware, s upřednostněním aktivit spojených se základním vybavením družic, senzorů či obecných technologií s potenciálem opětovného využití (rozpočet návrhu nesmí přesáhnout 1 000 000 Euro),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b)    výzkumné a vývojové aktivity (včetně studií proveditelnosti) vedoucí k produktům (hardware nebo software), službám, ověření technologií, anebo obecným technologiím s potenciálem opětovného využití (rozpočet návrhu nesmí přesáhnout 200 000 Euro),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c)    přípravné aktivity (např. studie, formulace uživatelských požadavků, průzkumy trhu) podporující českou konkurenceschopnost v programech ESA (povinných a volitelných), kterých se Česká republika účastní (rozpočet návrhu nesmí přesáhnout 100 000 Euro).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8EC2C-3E87-467E-B87B-C54A2F02EEF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1.2 Rozpočet a určení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Celkový rozpočet vyčleněný pro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tuto Výzvu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je               2 500 000 Euro. V rámci této Výzvy mohou podávat návrhy pouze společnosti nebo organizace sídlící v České republice.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Konsorcia zahrnující společnosti nebo organizace z jiných členských států mohou být schválena pouze v případě náležitého odůvodnění jejich zapojení. Úkoly přidělené subjektům mimo Českou republiku nesmí v žádném případě tvořit hlavní aktivity navrhovaného záměru.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Vzdělávací a informační aktivity nejsou součástí této Výzvy.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0FBC8-F8DA-424A-A280-F0F60AD953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2. Podmínky a důvody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0000"/>
                </a:solidFill>
                <a:uFillTx/>
                <a:latin typeface="Times New Roman"/>
              </a:rPr>
              <a:t>Výzva je otevřena pouze do 15. května 2009 </a:t>
            </a:r>
            <a:r>
              <a:rPr b="1" lang="cs-CZ" sz="2400" spc="-1" strike="noStrike" u="sng">
                <a:solidFill>
                  <a:srgbClr val="11a0e7"/>
                </a:solidFill>
                <a:uFillTx/>
                <a:latin typeface="Times New Roman"/>
              </a:rPr>
              <a:t>jen </a:t>
            </a:r>
            <a:r>
              <a:rPr b="1" lang="cs-CZ" sz="2400" spc="-1" strike="noStrike">
                <a:solidFill>
                  <a:srgbClr val="11a0e7"/>
                </a:solidFill>
                <a:latin typeface="Times New Roman"/>
              </a:rPr>
              <a:t>pro podávání návrhů projektových záměrů v rámci pobídkového programu pro český průmysl (tzv. Czech Republic's Industry Incentive Scheme).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1a0e7"/>
                </a:solidFill>
                <a:latin typeface="Times New Roman"/>
              </a:rPr>
              <a:t>Do ostatních tendrů vypsaných v systému EMITS je možno se přihlašovat i nadále do data uzavření vypsaného tendru.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0000"/>
                </a:solidFill>
                <a:uFillTx/>
                <a:latin typeface="Times New Roman"/>
              </a:rPr>
              <a:t>Veškeré schválené projektové záměry budou kompletně financovány agenturou ESA. Registrace v systému EMITS je bezplatná.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0000"/>
                </a:solidFill>
                <a:uFillTx/>
                <a:latin typeface="Times New Roman"/>
              </a:rPr>
              <a:t>Prostor mají veškeré organizace po zaregistrování do systému EMITS.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8D02E-B68F-474D-8052-3FC9E158C1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Závěr: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Prezentaci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ESA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vytvořil Bc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. Vladimír Sedlák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sedlak@mpo.cz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Tel: +420 224 852 59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Ministerstvo průmyslu a obchodu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Na Františku 32, Praha 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www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mpo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cz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B0F92-3539-4DDD-96BF-1CB30EF5232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08:56:03Z</dcterms:created>
  <dc:creator>Vladimír Sedlák</dc:creator>
  <dc:description/>
  <dc:language>en-US</dc:language>
  <cp:lastModifiedBy>Vladimír Sedlák </cp:lastModifiedBy>
  <cp:lastPrinted>2009-04-22T19:24:48Z</cp:lastPrinted>
  <dcterms:modified xsi:type="dcterms:W3CDTF">2009-04-23T09:01:21Z</dcterms:modified>
  <cp:revision>38</cp:revision>
  <dc:subject/>
  <dc:title>Prezentace aplikace PowerPoint</dc:title>
</cp:coreProperties>
</file>