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482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6B2CA-B421-4B95-960B-CF35471844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5F516-0F50-46F3-97AF-E611FEFCAF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C7DDF-5365-4F03-963A-E70FD830CB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61EAF-C756-4783-AA4F-A329CF1887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B1ABB-F46E-4909-A870-EC769D967C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BE033-8618-4ACC-BE77-497044DE5D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3C240-DA93-4BE9-8DF3-4850AA5AAB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ADE58-8BD0-4561-99BB-90EEB82000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6B2BE-EAA8-480A-8A86-B4E1E9DA08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89B1B-F559-4852-9848-78B46998C1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4D32A-8643-4BF2-AC7C-FF5364526F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596CE-926E-4919-A2D4-F850B72D30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619440" y="6224760"/>
            <a:ext cx="190512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0e85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93E23-AEBC-40C1-9FB2-E92F85E56C5F}" type="slidenum">
              <a:rPr b="1" lang="cs-CZ" sz="1400" spc="-1" strike="noStrike">
                <a:solidFill>
                  <a:srgbClr val="0e85c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400800" y="6248520"/>
            <a:ext cx="2590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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2009</a:t>
            </a: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Ministerstvo průmyslu a obchod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MPO%20logo%20RGB200dpi" descr=""/>
          <p:cNvPicPr/>
          <p:nvPr/>
        </p:nvPicPr>
        <p:blipFill>
          <a:blip r:embed="rId2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2877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e85c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457200" algn="ctr"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mailto:sedlak@mpo.cz" TargetMode="External"/><Relationship Id="rId2" Type="http://schemas.openxmlformats.org/officeDocument/2006/relationships/hyperlink" Target="mailto:sedlak@mpo.cz" TargetMode="External"/><Relationship Id="rId3" Type="http://schemas.openxmlformats.org/officeDocument/2006/relationships/hyperlink" Target="mailto:sedlak@mpo.cz" TargetMode="External"/><Relationship Id="rId4" Type="http://schemas.openxmlformats.org/officeDocument/2006/relationships/hyperlink" Target="mailto:sedlak@mpo.cz" TargetMode="External"/><Relationship Id="rId5" Type="http://schemas.openxmlformats.org/officeDocument/2006/relationships/hyperlink" Target="mailto:sedlak@mpo.cz" TargetMode="External"/><Relationship Id="rId6" Type="http://schemas.openxmlformats.org/officeDocument/2006/relationships/hyperlink" Target="http://www.mpo.cz/" TargetMode="External"/><Relationship Id="rId7" Type="http://schemas.openxmlformats.org/officeDocument/2006/relationships/hyperlink" Target="http://www.mpo.cz/" TargetMode="External"/><Relationship Id="rId8" Type="http://schemas.openxmlformats.org/officeDocument/2006/relationships/hyperlink" Target="http://www.mpo.cz/" TargetMode="External"/><Relationship Id="rId9" Type="http://schemas.openxmlformats.org/officeDocument/2006/relationships/hyperlink" Target="http://www.mpo.cz/" TargetMode="External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mits.esa.int/emits/owa/emits.main" TargetMode="External"/><Relationship Id="rId2" Type="http://schemas.openxmlformats.org/officeDocument/2006/relationships/hyperlink" Target="http://www.esa.int/home-ind/" TargetMode="External"/><Relationship Id="rId3" Type="http://schemas.openxmlformats.org/officeDocument/2006/relationships/hyperlink" Target="mailto:idhelp@esa.int" TargetMode="External"/><Relationship Id="rId4" Type="http://schemas.openxmlformats.org/officeDocument/2006/relationships/hyperlink" Target="mailto:idhelp@esa.int" TargetMode="External"/><Relationship Id="rId5" Type="http://schemas.openxmlformats.org/officeDocument/2006/relationships/hyperlink" Target="mailto:idhelp@esa.int" TargetMode="Externa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mits.esa.int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MPO%20logo%20RGB200dpi" descr=""/>
          <p:cNvPicPr/>
          <p:nvPr/>
        </p:nvPicPr>
        <p:blipFill>
          <a:blip r:embed="rId1"/>
          <a:stretch/>
        </p:blipFill>
        <p:spPr>
          <a:xfrm>
            <a:off x="2362320" y="2371680"/>
            <a:ext cx="43178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Kde mohu začí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534160" cy="53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4.4 Obsah dotazníků: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Vyžadované informace jsou 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děleny podle typu firmy: 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Industrial Firm (průmyslová firma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Service Firm (služby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Non-Profit Organisation (nezisková organizace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Other (další)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Hlavní informace: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Kontakty: (jen pro A, B a D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Entity Identification (Identifikace)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Chief Executice Officer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Official Registration (Oficiální registrace)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(generální ředitel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VAT </a:t>
            </a:r>
            <a:r>
              <a:rPr b="1" lang="en-US" sz="1600" spc="-1" strike="noStrike">
                <a:solidFill>
                  <a:srgbClr val="0e85c0"/>
                </a:solidFill>
                <a:latin typeface="Times New Roman"/>
              </a:rPr>
              <a:t>&amp;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 Social Security Numbers 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Chief Financial Officer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Organisation Chart (organizační tabulka)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(finanční ředitel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Establishments (ustanovení)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Space Business Manager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(manažer vesmírných obchodů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Kontakty: (Jen pro C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Head of Institution / Dean (ředitel instituce / děkan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Head of Administration (ředitel administrace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Responsible for Space Activities (odpovědná osoba za vesmírné aktivity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32416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4492" t="12367" r="17399" b="54567"/>
          <a:stretch/>
        </p:blipFill>
        <p:spPr>
          <a:xfrm>
            <a:off x="4343400" y="1066680"/>
            <a:ext cx="449568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F88C8-A5DD-4116-B701-65B43F3CAA2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Kde mohu začí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4.4 Obsah dotazníků: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Pravidla pro všechny stejná v oblastech: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Aktivity / Projekty / Produkty a Service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Staff </a:t>
            </a:r>
            <a:r>
              <a:rPr b="1" lang="en-US" sz="1800" spc="-1" strike="noStrike">
                <a:solidFill>
                  <a:srgbClr val="0e85c0"/>
                </a:solidFill>
                <a:latin typeface="Times New Roman"/>
              </a:rPr>
              <a:t>&amp;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 Facilities (zařízení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Key Financial Figures (klíčová finanční tabulka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Ownership: (vlastnictví, pouze A,B a D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Structural Relations (strukturní vztahy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Working Relations (pracovní vztahy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Firm Shareholder (akcionáři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Subsidiary (podpora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Achievements: (pouze C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Space Activities (vesmírné aktivity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Space Projects (vesmírné projekty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Activities not related to Space (aktivity bez zaměření na vesmír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EF3DD-73AE-4D31-808A-2F9CC506BFE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5.1 Tipy pro registraci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nejprve si předčtěte dokumentaci na průmyslovém portálu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vstupte do systému a uložte si PIN nebo ID/PW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uveďte typ organizace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klikněte na “View All“ a vytiskněte si dotazník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zvolte si svého koordinátora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koordinujte interní data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začněte vyplňovat elektronický dotazník pouze pokud budete mít 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všechna data zkompletizována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dvakrát zkontrolujte místa označená 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*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nezapomeňte na pravidelné připojení (důležité k ověření platnosti)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buďte opatrní na informace, které obdržíte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BC2A0-FA1E-4175-B863-0EE74D4FA47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5.2 Časté chyb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představa že aktualizace vaší práce je ztracena při pohledu do View módu: musíte přejít do Edit módu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vyplnění pouze 2 ze 3 polí u kontaktů: musí být vyplněno country code (číslo státu), area code (číslo oblasti), number (vlastní číslo)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nezvolení “None“ nebo NA pokud je vyžadováno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nezvolení nebo nevložení funkce v kartě business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registrace 2 dny před vypršením projektu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speciální registrace pro laboratoře, univerzity, úřady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6481D-475A-4FF0-9452-5450575F757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534160" cy="53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5.3 Proces registrace neziskových organizací: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- jednoduchá procedura zavolat 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ESA-Mr Verdin tel: +331 5369 7119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- uvedení důležitých informací jako jméno, kontakt a emailové adresy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- pro sublevels bude vytvořen kód ESABD pro doplnění dalších kontaktních informací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C698F-6913-4ACA-8194-D8EAB24B14B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5.3 Proces registrace neziskových organizací: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11721" t="9376" r="21093" b="13540"/>
          <a:stretch/>
        </p:blipFill>
        <p:spPr>
          <a:xfrm>
            <a:off x="1752480" y="1447920"/>
            <a:ext cx="5715000" cy="484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1EC65-4C89-4DF2-A472-6F7780CE232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5.3 Proces registrace neziskových organizací: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11721" t="12502" r="21876" b="21878"/>
          <a:stretch/>
        </p:blipFill>
        <p:spPr>
          <a:xfrm>
            <a:off x="1371600" y="1447920"/>
            <a:ext cx="6477120" cy="480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528A0-155B-47B6-8472-B3553043D81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5.3 Proces registrace neziskových organizací: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7811" t="9376" r="25782" b="12502"/>
          <a:stretch/>
        </p:blipFill>
        <p:spPr>
          <a:xfrm>
            <a:off x="1752480" y="1447920"/>
            <a:ext cx="5410440" cy="477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184C8-5F09-4E20-BD3D-A9FEB84B8A0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12500" t="10420" r="13282" b="17709"/>
          <a:stretch/>
        </p:blipFill>
        <p:spPr>
          <a:xfrm>
            <a:off x="990720" y="1143000"/>
            <a:ext cx="7238880" cy="510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2EDDD-3048-43A3-AB56-B902C20171B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10938" t="11458" r="12500" b="21878"/>
          <a:stretch/>
        </p:blipFill>
        <p:spPr>
          <a:xfrm>
            <a:off x="685800" y="1219320"/>
            <a:ext cx="7467480" cy="487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79C06-AF02-4D0B-8331-CD524001DBD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2666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Esa on-line Tenderers</a:t>
            </a:r>
            <a:br>
              <a:rPr sz="3600"/>
            </a:b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Registrační systém EMITS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4038480"/>
            <a:ext cx="5410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Arial"/>
              </a:rPr>
              <a:t>Bc. Vladimír Sedl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8480" y="5775840"/>
            <a:ext cx="4134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e85c0"/>
                </a:solidFill>
                <a:latin typeface="Arial"/>
              </a:rPr>
              <a:t>©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 2009 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  <a:ea typeface="SimSun"/>
              </a:rPr>
              <a:t>Minist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erstvo průmyslu a obcho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MPO%20logo%20RGB200dpi" descr=""/>
          <p:cNvPicPr/>
          <p:nvPr/>
        </p:nvPicPr>
        <p:blipFill>
          <a:blip r:embed="rId1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11721" t="18753" r="11721" b="20835"/>
          <a:stretch/>
        </p:blipFill>
        <p:spPr>
          <a:xfrm>
            <a:off x="762120" y="1219320"/>
            <a:ext cx="7467480" cy="441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47128-4882-4017-B6E0-3F8D7A60496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úspěšných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8594" t="11458" r="10938" b="17709"/>
          <a:stretch/>
        </p:blipFill>
        <p:spPr>
          <a:xfrm>
            <a:off x="457200" y="1143000"/>
            <a:ext cx="784872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93161-05B2-454B-8AC1-9765366F1A2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úspěšných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9376" t="17709" r="9376" b="20835"/>
          <a:stretch/>
        </p:blipFill>
        <p:spPr>
          <a:xfrm>
            <a:off x="609480" y="1447920"/>
            <a:ext cx="792504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93F16-F856-4BFB-AEA9-E4484214AEB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úspěšných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7811" t="28124" r="9376" b="25004"/>
          <a:stretch/>
        </p:blipFill>
        <p:spPr>
          <a:xfrm>
            <a:off x="457200" y="1828800"/>
            <a:ext cx="807732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82C7B-572E-4F15-9413-833276604BC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7. Příklady dotazníků (schválený)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13282" t="10420" r="13282" b="16666"/>
          <a:stretch/>
        </p:blipFill>
        <p:spPr>
          <a:xfrm>
            <a:off x="990720" y="1219320"/>
            <a:ext cx="6629400" cy="493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86C96-D8CA-415D-B663-0C80F38815C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7. Příklady dotazníků (neschválený)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10155" t="10420" r="10938" b="18753"/>
          <a:stretch/>
        </p:blipFill>
        <p:spPr>
          <a:xfrm>
            <a:off x="609480" y="1066680"/>
            <a:ext cx="7696440" cy="518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30D82-9BA8-4BF2-BA29-E88210FE1F1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04920" y="38088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7. Příklady dotazníků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8594" t="9376" r="10155" b="20835"/>
          <a:stretch/>
        </p:blipFill>
        <p:spPr>
          <a:xfrm>
            <a:off x="533520" y="1143000"/>
            <a:ext cx="7924680" cy="510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4F5FA-B0DB-45CA-B998-51775DA35D6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400" spc="-1" strike="noStrike">
                <a:solidFill>
                  <a:srgbClr val="0e85c0"/>
                </a:solidFill>
                <a:latin typeface="Times New Roman"/>
              </a:rPr>
              <a:t>Esa on-line Tenderers</a:t>
            </a:r>
            <a:br>
              <a:rPr sz="3400"/>
            </a:br>
            <a:r>
              <a:rPr b="1" lang="cs-CZ" sz="3400" spc="-1" strike="noStrike">
                <a:solidFill>
                  <a:srgbClr val="0e85c0"/>
                </a:solidFill>
                <a:latin typeface="Times New Roman"/>
              </a:rPr>
              <a:t>Registrační systém EMITS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vytvořil 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Bc. Vladimír Sedlák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           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sedlak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@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mpo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cz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       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Tel: +420 224 852 59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Ministerstvo průmyslu a obchodu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Na Františku 32, Praha 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6"/>
              </a:rPr>
              <a:t>www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7"/>
              </a:rPr>
              <a:t>mpo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8"/>
              </a:rPr>
              <a:t>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9"/>
              </a:rPr>
              <a:t>cz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A18C9-AFA9-46E7-A2F0-9B2B4FAD467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Arial"/>
              </a:rPr>
              <a:t>Obsah: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Proč se registrovat do EMITS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Kontakty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Filozofie registračního systému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Kde mohu začít?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4.1 Nový žadatel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4.2 Stávající uživatel 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4.3 Co je důležité na systému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4.4 Obsah dotazníků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Registrace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5.1 Tipy pro registraci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5.2 Časté chyby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5.3 Proces registrace neziskových organizací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Rejstřík registrací v ČR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7.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Příklady dotazníků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935F0-D1BD-4BA0-B4F8-3327906214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. Proč se registrovat do EMITS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obdržení individuálního (ESABD) kódu nutného k identifikaci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obdržení přístupového jména a hesla k přístupu do ITT informačních balíčků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pravidelné informování o vypisovaných tendrech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ESABD důležité pro další kontrakt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B9FFA-B9AE-49DE-A2DB-848F08A30DC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2. Kontakt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Adresa EMITS: 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emits.esa.int/emits/owa/emits.main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Detailní informace o registraci: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www.esa.int/home-ind/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Podpora: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ESA CPOs (procurements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Mrs Deneuwelaere (RES-PGP) 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31 5369 7173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Mrs Oppenheimer (RES-PGP)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17 1565 4010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Mr Reynaud (RES-PG)Head/Office 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17 1565 7161 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ESA Finance (payments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Erfried Erker (RES-FEI)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17 1565 3110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ESA Industrial Policy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MR JL Verdin (RES-P)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31 5369 7119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Eric Guilmet (RES-P)Head/division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31 5369 7349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chnická podpora: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idhelp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@esa.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int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90 6941 80444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Ministerstvo průmyslu a obchodu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</a:rPr>
              <a:t>sedlak@mpo.cz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0512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rcRect l="33618" t="13642" r="4964" b="73976"/>
          <a:stretch/>
        </p:blipFill>
        <p:spPr>
          <a:xfrm>
            <a:off x="4419720" y="1905120"/>
            <a:ext cx="3533760" cy="53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FFBC5-D252-45B8-833A-7EE66D3601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3. Filozofie registračního systému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Oficiální registrace: ESA chce mít informace o firmách zabývajících se kosmickým průmyslem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Hlavní informace: potřebné k ověření firem (nemusí docházet k opakovanému prověřování)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Kontakty: Esa potřebuje kontakty na řídící orgány u firem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Aktivity: Esa nabízí příležitost registrovaným vytvořit si svou vlastní technologii a marketing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Role EMITS: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zlepšení kvality poskytovaných informací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update dotazníků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ochrana informací o zákazníkovi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80BE4-FCDC-4024-BFB3-0A58B94C40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Kde mohu začít?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emits.esa.in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4.1 Nový žadatel: “Entity Registration“, obdržíte PIN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09480" y="1828800"/>
            <a:ext cx="7620120" cy="420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650F6-F461-489F-8A61-51E1AF4AD3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Kde mohu začí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4.2 Stávající uživatel: “LOGIN“ použijte uživatelské jméno a heslo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3389" t="10169" r="2543" b="24295"/>
          <a:stretch/>
        </p:blipFill>
        <p:spPr>
          <a:xfrm>
            <a:off x="304920" y="1676520"/>
            <a:ext cx="8229600" cy="430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319AE-3465-4C02-9035-3808D92ADC8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Kde mohu začí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4.3 Co je důležité na systému: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registrace umožní přistup k Legal Entities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v sekci dotazníků je barevné značení a to od </a:t>
            </a:r>
            <a:r>
              <a:rPr b="1" lang="cs-CZ" sz="2400" spc="-1" strike="noStrike">
                <a:solidFill>
                  <a:srgbClr val="00e4a8"/>
                </a:solidFill>
                <a:latin typeface="Times New Roman"/>
              </a:rPr>
              <a:t>zelené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po </a:t>
            </a:r>
            <a:r>
              <a:rPr b="1" lang="cs-CZ" sz="2400" spc="-1" strike="noStrike">
                <a:solidFill>
                  <a:srgbClr val="ffcf01"/>
                </a:solidFill>
                <a:latin typeface="Times New Roman"/>
              </a:rPr>
              <a:t>žlutou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až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červenou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do 8 sekcí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mnoho polí je označeno červenou hvězdou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, tato pole je nutné vyplnit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! Důležité je ukládat veškeré změny před přechodem do hlavní obrazovky, ukládání může trvat delší dobu, vždy si uložená data zkontrolujte, jinak budou ztracena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57480" t="33086" r="13428" b="46186"/>
          <a:stretch/>
        </p:blipFill>
        <p:spPr>
          <a:xfrm>
            <a:off x="762120" y="3657600"/>
            <a:ext cx="2057400" cy="1098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27672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rcRect l="7175" t="35217" r="47850" b="45915"/>
          <a:stretch/>
        </p:blipFill>
        <p:spPr>
          <a:xfrm>
            <a:off x="3886200" y="3733920"/>
            <a:ext cx="3352680" cy="104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C72AD-C8D9-4BBD-AEF3-5AD501463FE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07:49:12Z</dcterms:created>
  <dc:creator>Vladimír Sedlák</dc:creator>
  <dc:description/>
  <dc:language>en-US</dc:language>
  <cp:lastModifiedBy>Vladimír Sedlák </cp:lastModifiedBy>
  <cp:lastPrinted>2009-04-22T19:24:48Z</cp:lastPrinted>
  <dcterms:modified xsi:type="dcterms:W3CDTF">2009-04-16T13:25:40Z</dcterms:modified>
  <cp:revision>25</cp:revision>
  <dc:subject/>
  <dc:title>Prezentace aplikace PowerPoint</dc:title>
</cp:coreProperties>
</file>