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476D-D7DB-492F-8A67-177C314B9F3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71BC-8CC3-4937-9141-9CB875F35A3B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293-39AC-422B-AB10-56540AC6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E2D6-55B6-487A-BC66-1D2D1B17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0A5-45A4-4506-B65F-2BA43BFB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66C-E458-4FD4-AD01-B73D79F4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398-753B-4034-A0AB-5D42C1CA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790-5715-4592-9B1B-74521B81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C04D-9F47-44F7-9757-76DE48DE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484-A3FB-4FE3-9008-15D91BD2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D0AF-F879-49E2-90CA-28D40339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FBC-4DAA-4A8B-B398-D6D7B345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342-FD2C-454A-B306-C1B5F629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584A-BBF7-425F-A434-7BBF1C8D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7436-B237-4CD0-A887-53C7009FAE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920" y="2714400"/>
            <a:ext cx="3767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Představení fakulty, </a:t>
            </a:r>
            <a:br>
              <a:rPr sz="2000"/>
            </a:b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ústavu K6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4941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Prof. Dr. Ing. Miroslav Sví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Pavel Hrubeš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84360" y="52002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věten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Multimetr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zpečnost a spolehlivost telematických systémů a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, implementaci, ověřování a akreditaci různých (pozemních i kosmických) telematických systémů a zařízení zejména systémy železniční zabezpečovací techniky tak, aby byly garantovány požadované systémové parametry. K daným aplikacím budou přidány i systémy testování a certifikace vybraných aplikací dle platných směrnic a standard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Martin Leso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g. Faran, Ing. Fábera, Ing. Marvan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ční a navigační systé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zahrnuje návrh, implementaci a ověřování různých navigačních a identifikačních systémů s komponentami geoinformatiky jako jsou systémy automatického tísňového volání, systémy dynamické navigace, satelitní systémy elektronického mýtného, systémy pro sledování přepravy nebezpečných nákladů, atd. K daným aplikacím budou realizovány i systémy testování a certifik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Ing. Petr Bureš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. Zelinka, Ing. Hrubeš, Ing. Vlčková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ěžej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DA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mat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Ž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PM Con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D Telematika, a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ružení pro dopravní telemat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 veřejné s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dopra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cie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itelství silnic a dál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a železniční dopravní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gistrát hl. m. Pr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operace ústavu v oblasti V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adočeská univerzita v Pl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verzita Pardub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arykova univerzita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univerzita Libe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é učení technické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škola báňská- Technická univerzita Ost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Informatiky A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linská univerz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Del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Mnich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Link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Víd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South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technica To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TS asoc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osti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eškeré formy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y ministerstev (MPO, MD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ací projekty (E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ské prog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tví a odbor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4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a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Pavel Hrubeš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onviktská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10 00 Prah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:   http://www.lss.fd.cvut.cz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: hrubes@lss.fd.cvut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.:  (+420) 224 359 6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:   (+420) 224 359 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.:  (+420) 739 604 7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sklizen"/>
          <p:cNvPicPr/>
          <p:nvPr/>
        </p:nvPicPr>
        <p:blipFill>
          <a:blip r:embed="rId1"/>
          <a:stretch/>
        </p:blipFill>
        <p:spPr>
          <a:xfrm>
            <a:off x="5072040" y="3571920"/>
            <a:ext cx="3786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first-page"/>
          <p:cNvPicPr/>
          <p:nvPr/>
        </p:nvPicPr>
        <p:blipFill>
          <a:blip r:embed="rId1"/>
          <a:stretch/>
        </p:blipFill>
        <p:spPr>
          <a:xfrm>
            <a:off x="1612800" y="857160"/>
            <a:ext cx="7245360" cy="543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2"/>
          <a:stretch/>
        </p:blipFill>
        <p:spPr>
          <a:xfrm>
            <a:off x="5715000" y="30002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070413FotoVyuka2OPRLZ0352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114880" y="958680"/>
            <a:ext cx="3508560" cy="2408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Poslucharny 109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114880" y="369576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ravní systémy a 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a ekonomika dopravy    a tele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atizace a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ligentní doprav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tecká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esionální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logie a údržba leta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firma"/>
          <p:cNvPicPr/>
          <p:nvPr/>
        </p:nvPicPr>
        <p:blipFill>
          <a:blip r:embed="rId1">
            <a:lum bright="64000"/>
          </a:blip>
          <a:srcRect l="0" t="0" r="2483" b="0"/>
          <a:stretch/>
        </p:blipFill>
        <p:spPr>
          <a:xfrm>
            <a:off x="5329080" y="928800"/>
            <a:ext cx="3600720" cy="26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rewi2"/>
          <p:cNvPicPr/>
          <p:nvPr/>
        </p:nvPicPr>
        <p:blipFill>
          <a:blip r:embed="rId2">
            <a:lum bright="52000"/>
          </a:blip>
          <a:stretch/>
        </p:blipFill>
        <p:spPr>
          <a:xfrm>
            <a:off x="4824360" y="3952800"/>
            <a:ext cx="417672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aplikované mat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ch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ekonomiky a managementu doprav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informatik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jazyků a společenský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 techn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zení dopravních procesů a logis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mechaniky a materi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dicí techniky a tel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letecké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soudního znalectví v dopr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pro bakalářská studia - pracoviště Dě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7920" y="914040"/>
            <a:ext cx="6053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. Dr. Ing. Miroslav Sví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oucí ú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ca 40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. laborato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. za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571760"/>
            <a:ext cx="1357560" cy="1809720"/>
          </a:xfrm>
          <a:prstGeom prst="rect">
            <a:avLst/>
          </a:prstGeom>
          <a:ln w="0">
            <a:noFill/>
          </a:ln>
        </p:spPr>
      </p:pic>
      <p:sp>
        <p:nvSpPr>
          <p:cNvPr id="121" name="TextovéPole 7"/>
          <p:cNvSpPr/>
          <p:nvPr/>
        </p:nvSpPr>
        <p:spPr>
          <a:xfrm>
            <a:off x="1357200" y="3786120"/>
            <a:ext cx="564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ivity ústav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uka a vzdělávání, škol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ědecko - výzkum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Odborná činno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ešeršní práce, posudky, poradens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zkumné zprávy, pilotní pro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měření, testování, certifik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143240" y="1479600"/>
            <a:ext cx="5086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lasti zájmu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23"/>
          <p:cNvSpPr/>
          <p:nvPr/>
        </p:nvSpPr>
        <p:spPr>
          <a:xfrm>
            <a:off x="1285920" y="765000"/>
            <a:ext cx="7858080" cy="607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Skupina 21" descr=""/>
          <p:cNvPicPr/>
          <p:nvPr/>
        </p:nvPicPr>
        <p:blipFill>
          <a:blip r:embed="rId1"/>
          <a:stretch/>
        </p:blipFill>
        <p:spPr>
          <a:xfrm>
            <a:off x="-353880" y="871560"/>
            <a:ext cx="92487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tele_sml_prezentac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818320" y="695160"/>
            <a:ext cx="5040360" cy="323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lematické apl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rchitektur dopravně - telematických systémů, tvorbu koncepcí a strategií implementace telematických systémů, kontrola kvality telematických systémů, teorie systémů (dynamické aliance), nové metody v telematice (kvantová informatika), elektronické platby, rozsáhlé systémy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Zuzana Bělin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otruba, Prof. Novák, Prof. Svítek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zení do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řídicích systémů pozemní dopravy za pomoci dalších simulačních a modelovacích nástrojů tak, aby byla splněna kriteriální funkce řízení a to jak na úrovni HW, tak i S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ladimír Fal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ysoký, Prof. Přibyl, Doc. Tichý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1010372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3986280" y="3457440"/>
            <a:ext cx="5157720" cy="2900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dský faktor v do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rozhraní člověk-stroj včetně realizace těchto rozhraní na simulátorech. V rámci této oblasti je i skupina zabývající se zpracováním různých signálů (Eye Tracking, Oxygenation Monitor, EEG, EKG,  atd.) a vytěžování těchto dat pro další přidružené oblasti jako je posuzování ovládacích prvků vozidel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Petr Bouchner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f. Novák, Prof. Faber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3:27:44Z</dcterms:created>
  <dc:creator>Pavel Hrubeš</dc:creator>
  <dc:description/>
  <dc:language>en-US</dc:language>
  <cp:lastModifiedBy>Pavel Hrubeš</cp:lastModifiedBy>
  <dcterms:modified xsi:type="dcterms:W3CDTF">2009-05-13T12:55:13Z</dcterms:modified>
  <cp:revision>685</cp:revision>
  <dc:subject/>
  <dc:title>Pracovní jednání projektu OP RLZ 0352</dc:title>
</cp:coreProperties>
</file>