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6.wmf" ContentType="image/x-wmf"/>
  <Override PartName="/ppt/media/image11.png" ContentType="image/png"/>
  <Override PartName="/ppt/media/image19.jpeg" ContentType="image/jpeg"/>
  <Override PartName="/ppt/media/image12.jpeg" ContentType="image/jpeg"/>
  <Override PartName="/ppt/media/image5.wmf" ContentType="image/x-wmf"/>
  <Override PartName="/ppt/media/image25.png" ContentType="image/png"/>
  <Override PartName="/ppt/media/image21.png" ContentType="image/png"/>
  <Override PartName="/ppt/media/image3.wmf" ContentType="image/x-wmf"/>
  <Override PartName="/ppt/media/image4.png" ContentType="image/png"/>
  <Override PartName="/ppt/media/image20.png" ContentType="image/png"/>
  <Override PartName="/ppt/media/image2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.png" ContentType="image/png"/>
  <Override PartName="/ppt/media/image13.jpeg" ContentType="image/jpeg"/>
  <Override PartName="/ppt/media/image2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dt" idx="3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sldImg"/>
          </p:nvPr>
        </p:nvSpPr>
        <p:spPr>
          <a:xfrm>
            <a:off x="993600" y="769680"/>
            <a:ext cx="5112000" cy="38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ftr" idx="3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 type="sldNum" idx="3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70D0-D751-4D6A-808F-54BB58A0D976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5F96-9AAE-487D-A971-742C246F17EE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2000" cy="38336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E34F3-95BB-456F-B9C1-F921997F6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33157-F600-44F2-9FFB-AE4D98BF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EBBF0-305A-4200-B5B5-56248599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E232F-AD2A-41A3-BEFE-8A957AC4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FA918-2622-4981-B733-0A43EDFD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AB021-A20F-41F8-87A1-61DB52BA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37005-2B13-4F1E-8CD2-2B022A93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69902-C319-40CB-9ECB-29018907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3B781-3907-45C2-A3E2-819BC3D0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9E567-07F7-43CD-BEC8-3AA87596B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9F9E2-39EA-4869-A6BD-3539ED64F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13A86-3C0B-4034-8A47-B52EB6D92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A647F-B918-424C-9FCE-1158E1411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1A08B-99DC-4CF6-988D-20E2F646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F89628-3093-449D-BC99-2F6A3199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4765C-F159-4695-A658-70AD5F81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0C0881-8DFB-4C61-9556-00BA10F4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11D98-56C3-417D-82E9-8B28A3A5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92EE0-1EC8-42D9-B227-ED23D999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6A47D-FA6B-4AEF-B9AF-B5F51F59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09A5E-2C52-410F-A3A2-1891CF38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14821-4D20-437F-9549-C1927AC4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B57A2-ED4C-4E1F-B3AB-8E9A0190F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84AC8-A6FA-471F-8CED-750810D4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A19271-92E9-4515-B4DC-9E6D82F07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90CA8-5640-4F40-B71F-5A0AAC93E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7C7976-4F5B-4FD5-A3B3-A2881976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4851F4-1CF2-4BA9-AFEF-380384CC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F8739D-9DA9-4597-8368-7BBCD669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B231BB-2216-4BD8-B9C0-329ADEFB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5BEED4-7883-42AF-BBBA-FA50DE70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0B19C-B6AC-4D30-AAF1-D17FFB66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AAAF19-4B93-4542-8F89-2CA16763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A5C8A9-0E83-469F-9D16-98358F16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776DDE-551A-4CCC-90DF-5987DE51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8513BB-FDAD-47D6-BE41-5A11CD595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A371B9-7547-48B8-A102-7A4D5742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E1FCB-C8D4-4948-9728-9A1B2FEAA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9A1D9-2684-45F8-9D44-3C52C9CE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1A692-41EA-4BB2-9580-68DAA6ED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92AC2-2DF1-4AD2-9A0F-7EE14FD6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39386-2201-4B67-958D-60A532BF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9213A-9E3C-49CC-A308-A28AF929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8BAF6-BD78-479E-ACCE-64CED464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DD79E-7262-40DA-9D69-04677E42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28CD4-5985-46DE-BBF1-4184CC33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FA943-1D93-4152-8D85-F14C9229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3116E-1CA4-45A1-B3C0-1FFA5C11A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3F2FA3-DDC2-4C40-894F-A5801E292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629FC-07A5-4B80-95AA-38AF0E8B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4112-16F0-4013-94ED-D31BDD35F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4AE2-5162-42E3-AC2E-A31689F3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C0E9-15D3-4AB6-82E4-93EF18A2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BA23-C4DC-4540-BA89-D5086589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00FF-99F1-4027-BD75-981B1583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9520E-FCCD-49D3-A6ED-BE2C13E8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CE45-5CC7-40FA-9BEE-6664E88C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4576-F564-4DDA-AFC8-40B10839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795C-7DB4-4463-948C-5F8A0FCF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9CF3-7F50-4970-8916-495F4002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0549-0BBF-48AC-8ABA-6A2FE631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1B57-4B6A-4EE9-A125-F5A6CBAA1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FDDC-317F-4759-B12B-FA844222E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30F27-C44E-4D33-80F8-B32D295F0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578B4-AB0F-45F3-81FA-85E449D1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5EDFC-2585-4C30-86DE-60657ADB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A67A6-ED75-4569-A7EA-222E529B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74521-7947-45D5-B001-79B12367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4EA63-319B-415F-9166-A6D4FFF3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846FD-E052-4734-90F1-35A9C5A4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7CE8E-1BEB-4EB3-82BF-4A3D8D13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C0800-511D-4D0A-BDFC-DAC2027E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143FA-F71A-448E-80FC-045DDFD7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37342-732C-4B00-A25D-939849AC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C16B8-AFE7-4F5D-9CD0-143C71241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C9682-0973-43F0-9AE2-481294667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0E084-4C80-480E-80C2-F4AC7F867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1774B-24C3-4F2A-BF76-2F97BAA1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55AC5-7541-4211-B161-2A81C684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3990E-0B72-46B5-94BD-FDFA1764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EB047-DFB9-41FB-9B69-39109249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EF0DC-FE72-4A5A-B3AE-00AF8AD0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DCC17-84FD-4C46-8EC3-67DE74F6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324C1-8CB0-4C38-9A50-83FA2C9C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0F841-6E01-492C-8ED0-14747000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F9846-6F0D-4462-BFFF-7B4883C8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EC9F5-A88D-49CC-94DF-405D5F7B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AAA24-8F64-4797-BB5B-023F87880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1248B-3D92-4135-8E66-36921EA2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8C390-78E2-44C7-8CD9-52993DBBA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10820-A81F-466D-AE36-698EFCDB9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80C21-D9E1-4258-8E85-24C6A608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547E0-B339-4F1E-9155-28A69E70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70E5F-B2D2-4A32-8B43-659591F8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D68D8-2BD6-468E-9602-5C8A6476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B8A29-98CE-4AD3-8D2E-413EA979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6B7A4-5C7A-491B-8055-5FB805A5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9E133-72B5-4184-9E7A-0727D82B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84F56-DE2E-4B9D-B81D-5B545633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C969B-9F73-401F-9F8A-4A7BA563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ADD60-7C18-4B4F-B80B-DC59BBD5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02E07-DAFD-4CCB-98F7-CF6EBBF5E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F3121-995F-4647-B9E7-292329E8A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F442D-266B-417D-A3D8-9F874757A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D8A4E-18A3-4484-89D1-F3D31CB5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8F321-5D66-4652-A791-C4ED787E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7A8D6-D3B8-4084-AA9E-BB81BA48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FAC2E-FEA1-4B0A-AD61-399191C3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95728-F75D-430A-B61C-A293A7C9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1D0FE-1159-46A0-B2E4-C0AFC99C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8474C-FB88-4504-8715-8D7A41B2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23963-D845-4F5F-B980-AB9F22F5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06DB3-7409-4E73-95BE-3D4981C7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C8C1A-39E7-4CE9-B185-DCF30675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18B8D-1047-4256-9BC0-955482371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A6A60-2DEB-4EAA-951B-F72DDEB8F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057BF-47B6-4A09-A63E-B4DE5D17E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8C14C-2F71-421E-B2FC-42577816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461FE-4FD9-4FA6-AB4B-56BF05E9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469FE-4CEF-4F71-9EF5-6D340790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01596-09C1-4B49-8E23-0BBE1357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2FD61-4C60-4E34-9C67-4F54353F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2C693-9E27-4082-A922-52EBFAB1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AEF25-ABE8-4D2C-B7CE-FAFC92B8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50D37-137E-4652-B52C-22117645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09CC9-BC09-4B6D-8750-585DA697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47018-7895-45E4-8CEB-872C123F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2E35A-7A67-4C4D-9E7A-C3FE050BD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E5FC0-3AD1-420D-BE12-7FEA9DFD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4202F-0E9D-464B-B559-229328E54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F09AE-3A16-4208-9534-16106212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9C1B2-3035-47D2-9E48-D59EF339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B4F9-7477-48D6-8D80-8939E5D56E93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7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1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32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433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35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26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sldNum" idx="27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0A99-8107-4901-BF1E-04B97CF34A74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ftr" idx="28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79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80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481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82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83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9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30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EA6D-CDD5-4A56-944C-A507A1398C9D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ftr" idx="31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7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28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529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3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2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sldNum" idx="3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BEC4-6304-4E5D-AC8A-CA269F54DA90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ftr" idx="34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56600" cy="6902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4952880" y="685800"/>
            <a:ext cx="335304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 Praze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74720" cy="586080"/>
          </a:xfrm>
          <a:prstGeom prst="rect">
            <a:avLst/>
          </a:prstGeom>
          <a:ln w="0">
            <a:noFill/>
          </a:ln>
        </p:spPr>
      </p:pic>
      <p:sp>
        <p:nvSpPr>
          <p:cNvPr id="51" name="Line 8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4876920" y="1693800"/>
            <a:ext cx="426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"/>
              </a:rPr>
              <a:t>Fakulta dopravní  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4876920" y="242100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831a4"/>
                </a:solidFill>
                <a:latin typeface="Arial"/>
              </a:rPr>
              <a:t>Ústav řídicí techniky a telematiky</a:t>
            </a: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5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97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99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5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47E2-8DF8-4E0D-BA8A-0FCC2E11017C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7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145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8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9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5B48-B11E-4FEE-8BB1-DBDDDB4D165F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10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92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193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95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12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6855-16E0-4F45-B4A7-25F333E7FEBA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3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40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241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43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4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5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DBBD-4671-4FA6-A030-40CBDC492436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ftr" idx="16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87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88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289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90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9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7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18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B296-E9D1-4B4A-93F8-F3A623C5A0A5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ftr" idx="19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5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36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337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8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39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0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sldNum" idx="21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F624-1BA2-40B2-A788-2D92648B7745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ftr" idx="22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3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84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385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87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3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sldNum" idx="24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51FA-F730-462D-9E02-0B98D6BF6C6A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ftr" idx="25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03640" y="3284640"/>
            <a:ext cx="3600720" cy="13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 CE"/>
              </a:rPr>
              <a:t>Navigační a identifikační systé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ovéPole 3"/>
          <p:cNvSpPr/>
          <p:nvPr/>
        </p:nvSpPr>
        <p:spPr>
          <a:xfrm>
            <a:off x="5000760" y="521496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CE"/>
              </a:rPr>
              <a:t>Petr Bureš</a:t>
            </a:r>
            <a:endParaRPr b="0" lang="en-US" sz="28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přepravy nebezpečných náklad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ce, sledování, plánování a záchranné práce, propojení na další informační systé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0" name="Picture 3" descr="naklady5%20copy3"/>
          <p:cNvPicPr/>
          <p:nvPr/>
        </p:nvPicPr>
        <p:blipFill>
          <a:blip r:embed="rId1"/>
          <a:stretch/>
        </p:blipFill>
        <p:spPr>
          <a:xfrm>
            <a:off x="5429160" y="3857760"/>
            <a:ext cx="3375000" cy="202860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9"/>
          <p:cNvSpPr/>
          <p:nvPr/>
        </p:nvSpPr>
        <p:spPr>
          <a:xfrm>
            <a:off x="3643200" y="3681360"/>
            <a:ext cx="387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2" name="Picture 10" descr="IMG_0513"/>
          <p:cNvPicPr/>
          <p:nvPr/>
        </p:nvPicPr>
        <p:blipFill>
          <a:blip r:embed="rId2"/>
          <a:stretch/>
        </p:blipFill>
        <p:spPr>
          <a:xfrm>
            <a:off x="1785960" y="3500280"/>
            <a:ext cx="3267000" cy="24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3" name="Object 6"/>
          <p:cNvGraphicFramePr/>
          <p:nvPr/>
        </p:nvGraphicFramePr>
        <p:xfrm>
          <a:off x="4786200" y="4429080"/>
          <a:ext cx="1047960" cy="10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6200" y="4429080"/>
                    <a:ext cx="104796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sledování a řízení pohybu prostřednictvím GN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edová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u po letištní ploše, propojení s řídícím centrem, výběr komunikačního prostředí, zabezpečení, testování,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8" name="Picture 2" descr="image010"/>
          <p:cNvPicPr/>
          <p:nvPr/>
        </p:nvPicPr>
        <p:blipFill>
          <a:blip r:embed="rId1"/>
          <a:stretch/>
        </p:blipFill>
        <p:spPr>
          <a:xfrm>
            <a:off x="1857240" y="3929040"/>
            <a:ext cx="3159360" cy="21430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3" descr=""/>
          <p:cNvPicPr/>
          <p:nvPr/>
        </p:nvPicPr>
        <p:blipFill>
          <a:blip r:embed="rId2"/>
          <a:stretch/>
        </p:blipFill>
        <p:spPr>
          <a:xfrm>
            <a:off x="5715000" y="3857760"/>
            <a:ext cx="17146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Zástupný symbol pro zápatí 5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sah Prezent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2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pojení ústavu 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y dynamické navig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atelitní systémy elektronického mýtnéh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y pro sledování přepravy nebezpečných náklad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p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ákladní informace o projekte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stav se podílí na projektech v rámci laboratoře e-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udentské pro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 tematicky zaměřené projekty (navigace, dopravní informace a identifikac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zkumné pro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projekty VaV MD ČR (dopravní informace, monitorování D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projekty TP MPO ČR (identifikace, telematická jednot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1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popisu dopravních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rmáty a struktura protokolů DATEX2, TMC, TPEG, at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91" name="Picture 2" descr=""/>
          <p:cNvPicPr/>
          <p:nvPr/>
        </p:nvPicPr>
        <p:blipFill>
          <a:blip r:embed="rId1"/>
          <a:stretch/>
        </p:blipFill>
        <p:spPr>
          <a:xfrm>
            <a:off x="5613480" y="2786040"/>
            <a:ext cx="3530520" cy="2104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92" name="Picture 2" descr="bla2"/>
          <p:cNvPicPr/>
          <p:nvPr/>
        </p:nvPicPr>
        <p:blipFill>
          <a:blip r:embed="rId2"/>
          <a:stretch/>
        </p:blipFill>
        <p:spPr>
          <a:xfrm>
            <a:off x="4500720" y="4071960"/>
            <a:ext cx="2207880" cy="2122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93" name="Picture 8" descr="tmcmsg.jpg"/>
          <p:cNvPicPr/>
          <p:nvPr/>
        </p:nvPicPr>
        <p:blipFill>
          <a:blip r:embed="rId3"/>
          <a:stretch/>
        </p:blipFill>
        <p:spPr>
          <a:xfrm>
            <a:off x="1500120" y="2786040"/>
            <a:ext cx="3500640" cy="2630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1428480" y="857160"/>
            <a:ext cx="73911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lokalizace dopravních informac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tický, dynamický popis 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azba DI do mapového podkl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2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6" name="Picture 9" descr="lt_stn_link"/>
          <p:cNvPicPr/>
          <p:nvPr/>
        </p:nvPicPr>
        <p:blipFill>
          <a:blip r:embed="rId1"/>
          <a:stretch/>
        </p:blipFill>
        <p:spPr>
          <a:xfrm>
            <a:off x="1643040" y="3286080"/>
            <a:ext cx="3643200" cy="25876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9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98" name="Picture 10" descr=""/>
          <p:cNvPicPr/>
          <p:nvPr/>
        </p:nvPicPr>
        <p:blipFill>
          <a:blip r:embed="rId2"/>
          <a:stretch/>
        </p:blipFill>
        <p:spPr>
          <a:xfrm>
            <a:off x="3786120" y="3214800"/>
            <a:ext cx="4098960" cy="2746440"/>
          </a:xfrm>
          <a:prstGeom prst="rect">
            <a:avLst/>
          </a:prstGeom>
          <a:ln w="0">
            <a:noFill/>
          </a:ln>
        </p:spPr>
      </p:pic>
      <p:grpSp>
        <p:nvGrpSpPr>
          <p:cNvPr id="599" name="Skupina 17"/>
          <p:cNvGrpSpPr/>
          <p:nvPr/>
        </p:nvGrpSpPr>
        <p:grpSpPr>
          <a:xfrm>
            <a:off x="3786120" y="3214800"/>
            <a:ext cx="4006800" cy="2738160"/>
            <a:chOff x="3786120" y="3214800"/>
            <a:chExt cx="4006800" cy="2738160"/>
          </a:xfrm>
        </p:grpSpPr>
        <p:sp>
          <p:nvSpPr>
            <p:cNvPr id="600" name="Obdélník 11"/>
            <p:cNvSpPr/>
            <p:nvPr/>
          </p:nvSpPr>
          <p:spPr>
            <a:xfrm>
              <a:off x="3917880" y="4751280"/>
              <a:ext cx="3583080" cy="1035000"/>
            </a:xfrm>
            <a:prstGeom prst="rect">
              <a:avLst/>
            </a:prstGeom>
            <a:noFill/>
            <a:ln w="25560">
              <a:solidFill>
                <a:srgbClr val="c9dd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grpSp>
          <p:nvGrpSpPr>
            <p:cNvPr id="601" name="Skupina 17"/>
            <p:cNvGrpSpPr/>
            <p:nvPr/>
          </p:nvGrpSpPr>
          <p:grpSpPr>
            <a:xfrm>
              <a:off x="3786120" y="3214800"/>
              <a:ext cx="4006800" cy="2738160"/>
              <a:chOff x="3786120" y="3214800"/>
              <a:chExt cx="4006800" cy="2738160"/>
            </a:xfrm>
          </p:grpSpPr>
          <p:sp>
            <p:nvSpPr>
              <p:cNvPr id="602" name="Obdélník 12"/>
              <p:cNvSpPr/>
              <p:nvPr/>
            </p:nvSpPr>
            <p:spPr>
              <a:xfrm>
                <a:off x="3786120" y="3214800"/>
                <a:ext cx="4006800" cy="153144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3" name="Obdélník 14"/>
              <p:cNvSpPr/>
              <p:nvPr/>
            </p:nvSpPr>
            <p:spPr>
              <a:xfrm>
                <a:off x="3786120" y="4746240"/>
                <a:ext cx="136800" cy="103428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4" name="Obdélník 15"/>
              <p:cNvSpPr/>
              <p:nvPr/>
            </p:nvSpPr>
            <p:spPr>
              <a:xfrm>
                <a:off x="3786120" y="5779800"/>
                <a:ext cx="4006800" cy="17316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5" name="Obdélník 16"/>
              <p:cNvSpPr/>
              <p:nvPr/>
            </p:nvSpPr>
            <p:spPr>
              <a:xfrm>
                <a:off x="7512480" y="4746240"/>
                <a:ext cx="277200" cy="103428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</p:grpSp>
      </p:grpSp>
      <p:pic>
        <p:nvPicPr>
          <p:cNvPr id="606" name="Picture 2" descr="aplagora"/>
          <p:cNvPicPr/>
          <p:nvPr/>
        </p:nvPicPr>
        <p:blipFill>
          <a:blip r:embed="rId3"/>
          <a:stretch/>
        </p:blipFill>
        <p:spPr>
          <a:xfrm>
            <a:off x="6072120" y="3429000"/>
            <a:ext cx="2836800" cy="2338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3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vysílání, příjmu a vizualizace dopravních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přenosových prostře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funkčnosti navig. přístro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10" name="Obrázek 9" descr="p118_Mio.jpg"/>
          <p:cNvPicPr/>
          <p:nvPr/>
        </p:nvPicPr>
        <p:blipFill>
          <a:blip r:embed="rId1"/>
          <a:stretch/>
        </p:blipFill>
        <p:spPr>
          <a:xfrm>
            <a:off x="5357880" y="4143240"/>
            <a:ext cx="3565440" cy="1990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1" name="Picture 2" descr="P1370210"/>
          <p:cNvPicPr/>
          <p:nvPr/>
        </p:nvPicPr>
        <p:blipFill>
          <a:blip r:embed="rId2"/>
          <a:stretch/>
        </p:blipFill>
        <p:spPr>
          <a:xfrm>
            <a:off x="1428840" y="3714840"/>
            <a:ext cx="3692520" cy="2401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2" name="Picture 3" descr=""/>
          <p:cNvPicPr/>
          <p:nvPr/>
        </p:nvPicPr>
        <p:blipFill>
          <a:blip r:embed="rId3"/>
          <a:srcRect l="0" t="16339" r="0" b="13465"/>
          <a:stretch/>
        </p:blipFill>
        <p:spPr>
          <a:xfrm>
            <a:off x="3714840" y="3214800"/>
            <a:ext cx="3200400" cy="1684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identifikačních technolog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středky identif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a zabezpečení identifikát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telematických aplik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FC, EL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RI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16" name="Picture 5" descr=""/>
          <p:cNvPicPr/>
          <p:nvPr/>
        </p:nvPicPr>
        <p:blipFill>
          <a:blip r:embed="rId1"/>
          <a:stretch/>
        </p:blipFill>
        <p:spPr>
          <a:xfrm>
            <a:off x="5857920" y="3857760"/>
            <a:ext cx="2552760" cy="20383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6" descr=""/>
          <p:cNvPicPr/>
          <p:nvPr/>
        </p:nvPicPr>
        <p:blipFill>
          <a:blip r:embed="rId2"/>
          <a:stretch/>
        </p:blipFill>
        <p:spPr>
          <a:xfrm>
            <a:off x="2071800" y="3929040"/>
            <a:ext cx="34290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architektury systému mýtné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tický, satelitní systém, hybridní syst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hybridního systému v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zinárodních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rem (C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21" name="Picture 5" descr="PC130011"/>
          <p:cNvPicPr/>
          <p:nvPr/>
        </p:nvPicPr>
        <p:blipFill>
          <a:blip r:embed="rId1"/>
          <a:stretch/>
        </p:blipFill>
        <p:spPr>
          <a:xfrm>
            <a:off x="4786200" y="3643200"/>
            <a:ext cx="392904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voj universální telematické jednot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funkcí, rozhraní a přenosových prostřed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voj prototy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25" name="Picture 5" descr="architecture"/>
          <p:cNvPicPr/>
          <p:nvPr/>
        </p:nvPicPr>
        <p:blipFill>
          <a:blip r:embed="rId1"/>
          <a:stretch/>
        </p:blipFill>
        <p:spPr>
          <a:xfrm>
            <a:off x="4714920" y="3857760"/>
            <a:ext cx="4178160" cy="18237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9" descr=""/>
          <p:cNvPicPr/>
          <p:nvPr/>
        </p:nvPicPr>
        <p:blipFill>
          <a:blip r:embed="rId2"/>
          <a:stretch/>
        </p:blipFill>
        <p:spPr>
          <a:xfrm>
            <a:off x="1571760" y="4429080"/>
            <a:ext cx="292896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9T01:12:06Z</dcterms:created>
  <dc:creator>jakub</dc:creator>
  <dc:description/>
  <dc:language>en-US</dc:language>
  <cp:lastModifiedBy>Pavel Hrubeš</cp:lastModifiedBy>
  <dcterms:modified xsi:type="dcterms:W3CDTF">2009-05-13T07:50:00Z</dcterms:modified>
  <cp:revision>136</cp:revision>
  <dc:subject/>
  <dc:title>Work Package 6</dc:title>
</cp:coreProperties>
</file>