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7.wmf" ContentType="image/x-wmf"/>
  <Override PartName="/ppt/media/image8.wmf" ContentType="image/x-wmf"/>
  <Override PartName="/ppt/media/image9.wmf" ContentType="image/x-wmf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ftr" idx="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 type="sldNum" idx="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082F8-0840-4A11-AB5C-13F7870D3800}" type="slidenum"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4F698-2E41-4D9B-BE2B-8592C942423C}" type="slidenum">
              <a:rPr b="1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5EFD7-7245-4130-ADB0-C1EDA3F40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1661F-308B-4F52-8192-15531233A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D930C-F5AF-415B-9ECC-C6D626C3A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4668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4544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4756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4668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4544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F688D-D251-4F2B-AC2C-0586CDDA4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1676160" y="-360"/>
            <a:ext cx="74674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A15C7-13E8-4946-88EE-7DADCB677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94668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44544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144756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94668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44544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52F80-1258-458D-894A-FA9D9F1A6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E6CAA-F0D2-4DED-8762-550EDB5BA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3B255-EAA9-4B11-A2F3-51B25D2DE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676160" y="-360"/>
            <a:ext cx="74674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02079-14C7-43FC-9047-3A65D6E2B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A0219-92A6-479F-874C-A707997A2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BDC12-08B1-40FF-8B82-31A4D8096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3AFBE-C273-491D-8648-918E468DA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3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43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0831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Rectangle 40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České vysoké učení technické v Praze - Fakulta dopravní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Ústav řídicí techniky a telematik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8153280" y="632448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86C31-8B05-4B71-A0AB-3E034EDBD74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0160" indent="-2286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12880" indent="-2286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36" descr=""/>
          <p:cNvPicPr/>
          <p:nvPr/>
        </p:nvPicPr>
        <p:blipFill>
          <a:blip r:embed="rId3"/>
          <a:stretch/>
        </p:blipFill>
        <p:spPr>
          <a:xfrm>
            <a:off x="7543800" y="6381720"/>
            <a:ext cx="533520" cy="405000"/>
          </a:xfrm>
          <a:prstGeom prst="rect">
            <a:avLst/>
          </a:prstGeom>
          <a:ln w="0">
            <a:noFill/>
          </a:ln>
        </p:spPr>
      </p:pic>
      <p:sp>
        <p:nvSpPr>
          <p:cNvPr id="8" name="Line 45"/>
          <p:cNvSpPr/>
          <p:nvPr/>
        </p:nvSpPr>
        <p:spPr>
          <a:xfrm>
            <a:off x="838080" y="0"/>
            <a:ext cx="0" cy="6248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" name="Picture 49" descr="obr3a_hhh"/>
          <p:cNvPicPr/>
          <p:nvPr/>
        </p:nvPicPr>
        <p:blipFill>
          <a:blip r:embed="rId4"/>
          <a:srcRect l="15230" t="4755" r="69543" b="0"/>
          <a:stretch/>
        </p:blipFill>
        <p:spPr>
          <a:xfrm>
            <a:off x="0" y="0"/>
            <a:ext cx="1295280" cy="6324480"/>
          </a:xfrm>
          <a:prstGeom prst="rect">
            <a:avLst/>
          </a:prstGeom>
          <a:ln w="0">
            <a:noFill/>
          </a:ln>
        </p:spPr>
      </p:pic>
      <p:sp>
        <p:nvSpPr>
          <p:cNvPr id="10" name="Line 51"/>
          <p:cNvSpPr/>
          <p:nvPr/>
        </p:nvSpPr>
        <p:spPr>
          <a:xfrm>
            <a:off x="1295280" y="0"/>
            <a:ext cx="0" cy="6324480"/>
          </a:xfrm>
          <a:prstGeom prst="line">
            <a:avLst/>
          </a:prstGeom>
          <a:ln w="9360">
            <a:solidFill>
              <a:srgbClr val="2a3d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Line 29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9" descr="obr3a_hhh"/>
          <p:cNvPicPr/>
          <p:nvPr/>
        </p:nvPicPr>
        <p:blipFill>
          <a:blip r:embed="rId3"/>
          <a:stretch/>
        </p:blipFill>
        <p:spPr>
          <a:xfrm>
            <a:off x="0" y="0"/>
            <a:ext cx="9144000" cy="6889680"/>
          </a:xfrm>
          <a:prstGeom prst="rect">
            <a:avLst/>
          </a:prstGeom>
          <a:ln w="0">
            <a:noFill/>
          </a:ln>
        </p:spPr>
      </p:pic>
      <p:sp>
        <p:nvSpPr>
          <p:cNvPr id="49" name="Text Box 21"/>
          <p:cNvSpPr/>
          <p:nvPr/>
        </p:nvSpPr>
        <p:spPr>
          <a:xfrm>
            <a:off x="4952880" y="68580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České vysoké učení technické v Praz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23"/>
          <p:cNvSpPr/>
          <p:nvPr/>
        </p:nvSpPr>
        <p:spPr>
          <a:xfrm>
            <a:off x="4876920" y="182880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a3d7a"/>
                </a:solidFill>
                <a:latin typeface="Arial"/>
              </a:rPr>
              <a:t>Fakulta dopravní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24"/>
          <p:cNvSpPr/>
          <p:nvPr/>
        </p:nvSpPr>
        <p:spPr>
          <a:xfrm>
            <a:off x="4876920" y="2209680"/>
            <a:ext cx="426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a3d7a"/>
                </a:solidFill>
                <a:latin typeface="Arial"/>
              </a:rPr>
              <a:t>Ústav řídicí techniky a telematiky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Picture 38" descr=""/>
          <p:cNvPicPr/>
          <p:nvPr/>
        </p:nvPicPr>
        <p:blipFill>
          <a:blip r:embed="rId4"/>
          <a:stretch/>
        </p:blipFill>
        <p:spPr>
          <a:xfrm>
            <a:off x="8305920" y="722160"/>
            <a:ext cx="761760" cy="573120"/>
          </a:xfrm>
          <a:prstGeom prst="rect">
            <a:avLst/>
          </a:prstGeom>
          <a:ln w="0">
            <a:noFill/>
          </a:ln>
        </p:spPr>
      </p:pic>
      <p:sp>
        <p:nvSpPr>
          <p:cNvPr id="53" name="Line 46"/>
          <p:cNvSpPr/>
          <p:nvPr/>
        </p:nvSpPr>
        <p:spPr>
          <a:xfrm>
            <a:off x="4572000" y="685800"/>
            <a:ext cx="0" cy="6248520"/>
          </a:xfrm>
          <a:prstGeom prst="line">
            <a:avLst/>
          </a:prstGeom>
          <a:ln w="9360">
            <a:solidFill>
              <a:srgbClr val="2a3d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0160" indent="-2286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12880" indent="-2286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8765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876560" y="3809880"/>
            <a:ext cx="426708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a3d7a"/>
                </a:solidFill>
                <a:latin typeface="Arial"/>
              </a:rPr>
              <a:t>Telematické aplika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876560" y="5333760"/>
            <a:ext cx="426708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a3d7a"/>
                </a:solidFill>
                <a:latin typeface="Arial"/>
              </a:rPr>
              <a:t>Ing. Zuzana Bělinov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Systémové paramet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1357200" y="1143000"/>
          <a:ext cx="7696440" cy="3986280"/>
        </p:xfrm>
        <a:graphic>
          <a:graphicData uri="http://schemas.openxmlformats.org/drawingml/2006/table">
            <a:tbl>
              <a:tblPr/>
              <a:tblGrid>
                <a:gridCol w="1668600"/>
                <a:gridCol w="1508040"/>
                <a:gridCol w="1509840"/>
                <a:gridCol w="1503360"/>
                <a:gridCol w="1506600"/>
              </a:tblGrid>
              <a:tr h="79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Parametr/Grafikon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Komerční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Intervalový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Taktový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Integrální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47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Přesnost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15m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10m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10m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1m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Spolehlivost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95%/1rok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95%/1rok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99%/1rok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99%/1rok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Dostupnost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95%/1hodina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95%/1hodina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99%/1hodina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99%/1hodina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Kontinuita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5s/1 hodina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5s/1 hodina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5s/1 hodina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2s/1 hodina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Integrita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10s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10s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5s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2s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Bezpečnost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Arial"/>
                        </a:rPr>
                        <a:t>Ne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Arial"/>
                        </a:rPr>
                        <a:t>Ne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Arial"/>
                        </a:rPr>
                        <a:t>Ne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Arial"/>
                        </a:rPr>
                        <a:t>Ne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Standardizační proces I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Zástupný symbol pro zápatí 3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54" name="Object 2"/>
          <p:cNvGraphicFramePr/>
          <p:nvPr/>
        </p:nvGraphicFramePr>
        <p:xfrm>
          <a:off x="1488960" y="928800"/>
          <a:ext cx="7497720" cy="5286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88960" y="928800"/>
                    <a:ext cx="7497720" cy="528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mplexní analýza prostřed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ávrhy systémových model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7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chválená národní metodika tvorby  architektury dopravní telemati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rganizace a legislativa rozvoj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Jednotná informační bá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ystémové paramet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Ekonomi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Zástupný symbol pro zápatí 3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DŮRAZ NA SYSTÉMOVÝ PŘÍSTUP ŘEŠENÍ V APLIKACI DOPRAVNÍ TELEMATIK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9" name="Picture 3" descr="praceuPC"/>
          <p:cNvPicPr/>
          <p:nvPr/>
        </p:nvPicPr>
        <p:blipFill>
          <a:blip r:embed="rId1"/>
          <a:stretch/>
        </p:blipFill>
        <p:spPr>
          <a:xfrm>
            <a:off x="5929200" y="4152960"/>
            <a:ext cx="3214800" cy="215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tudie, analýzy a rešerše aktuálního stavu poznání v ČR a zahranič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radenství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ystémový návrh architekt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ávrh procesních model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ávrh datových modelů, rozhraní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Zástupný symbol pro zápatí 3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Definice telematik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357200" y="819000"/>
            <a:ext cx="73915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4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ac164"/>
                </a:solidFill>
                <a:latin typeface="Arial"/>
              </a:rPr>
              <a:t>Telematik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je systémově inženýrský obor, zabývající se tvorbou a účelným využitím informačního prostředí pro homeostatické procesy (kompenzace rušivých vlivů pro zachování silných procesů dle definovaných kritérií, např. komfort, ekonomika, atd.) územních celků až po globální síťová odvětví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Zástupný symbol pro zápatí 3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Zástupný symbol pro zápatí 5"/>
          <p:cNvSpPr/>
          <p:nvPr/>
        </p:nvSpPr>
        <p:spPr>
          <a:xfrm>
            <a:off x="1547640" y="6408720"/>
            <a:ext cx="662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Inteligentní dopravní systémy – Dopravní telematika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Zástupný symbol pro číslo snímku 6"/>
          <p:cNvSpPr/>
          <p:nvPr/>
        </p:nvSpPr>
        <p:spPr>
          <a:xfrm>
            <a:off x="8342280" y="6481800"/>
            <a:ext cx="801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EA97D-CFCA-4586-9786-CF437F2350AF}" type="slidenum">
              <a:rPr b="0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Rectangle 2"/>
          <p:cNvSpPr/>
          <p:nvPr/>
        </p:nvSpPr>
        <p:spPr>
          <a:xfrm>
            <a:off x="1405080" y="2205000"/>
            <a:ext cx="7667640" cy="4103640"/>
          </a:xfrm>
          <a:prstGeom prst="rect">
            <a:avLst/>
          </a:prstGeom>
          <a:solidFill>
            <a:srgbClr val="000000">
              <a:alpha val="2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Rectangle 3"/>
          <p:cNvSpPr/>
          <p:nvPr/>
        </p:nvSpPr>
        <p:spPr>
          <a:xfrm>
            <a:off x="3726000" y="4292640"/>
            <a:ext cx="3024000" cy="2136600"/>
          </a:xfrm>
          <a:prstGeom prst="rect">
            <a:avLst/>
          </a:prstGeom>
          <a:solidFill>
            <a:srgbClr val="61cf3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2" name="Group 4"/>
          <p:cNvGrpSpPr/>
          <p:nvPr/>
        </p:nvGrpSpPr>
        <p:grpSpPr>
          <a:xfrm>
            <a:off x="4702320" y="3213000"/>
            <a:ext cx="1081080" cy="1079640"/>
            <a:chOff x="4702320" y="3213000"/>
            <a:chExt cx="1081080" cy="1079640"/>
          </a:xfrm>
        </p:grpSpPr>
        <p:sp>
          <p:nvSpPr>
            <p:cNvPr id="113" name="Line 5"/>
            <p:cNvSpPr/>
            <p:nvPr/>
          </p:nvSpPr>
          <p:spPr>
            <a:xfrm>
              <a:off x="4702320" y="3213000"/>
              <a:ext cx="10810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Line 6"/>
            <p:cNvSpPr/>
            <p:nvPr/>
          </p:nvSpPr>
          <p:spPr>
            <a:xfrm>
              <a:off x="5221440" y="3213000"/>
              <a:ext cx="0" cy="1079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Rectangle 9"/>
          <p:cNvSpPr/>
          <p:nvPr/>
        </p:nvSpPr>
        <p:spPr>
          <a:xfrm>
            <a:off x="1822320" y="2565360"/>
            <a:ext cx="2880000" cy="1468440"/>
          </a:xfrm>
          <a:prstGeom prst="rect">
            <a:avLst/>
          </a:prstGeom>
          <a:solidFill>
            <a:srgbClr val="ff0f0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10"/>
          <p:cNvSpPr/>
          <p:nvPr/>
        </p:nvSpPr>
        <p:spPr>
          <a:xfrm>
            <a:off x="1714680" y="2508120"/>
            <a:ext cx="3163680" cy="147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</a:rPr>
              <a:t>TELEKOMUNIKAC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74600" indent="-174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" spc="-1" strike="noStrike">
              <a:solidFill>
                <a:srgbClr val="ffffff"/>
              </a:solidFill>
              <a:latin typeface="Arial"/>
            </a:endParaRPr>
          </a:p>
          <a:p>
            <a:pPr marL="174600" indent="-174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telekomunikační sítě a protokol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74600" indent="-174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inteligentní telekomunikační prostředí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74600" indent="-174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multifunkční telekomunikační sítě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Rectangle 11"/>
          <p:cNvSpPr/>
          <p:nvPr/>
        </p:nvSpPr>
        <p:spPr>
          <a:xfrm>
            <a:off x="5767560" y="2565360"/>
            <a:ext cx="2879640" cy="1468440"/>
          </a:xfrm>
          <a:prstGeom prst="rect">
            <a:avLst/>
          </a:prstGeom>
          <a:solidFill>
            <a:srgbClr val="fd92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Rectangle 12"/>
          <p:cNvSpPr/>
          <p:nvPr/>
        </p:nvSpPr>
        <p:spPr>
          <a:xfrm>
            <a:off x="5710320" y="2508120"/>
            <a:ext cx="3024000" cy="147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</a:rPr>
              <a:t>INFORMATIKA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74600" indent="-174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" spc="-1" strike="noStrike">
              <a:solidFill>
                <a:srgbClr val="ffffff"/>
              </a:solidFill>
              <a:latin typeface="Arial"/>
            </a:endParaRPr>
          </a:p>
          <a:p>
            <a:pPr marL="174600" indent="-174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softwarové inženýrství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74600" indent="-174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databázové systémy a technologie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74600" indent="-174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zpracování dat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74600" indent="-174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optimalizace datových toků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Rectangle 13"/>
          <p:cNvSpPr/>
          <p:nvPr/>
        </p:nvSpPr>
        <p:spPr>
          <a:xfrm>
            <a:off x="3683160" y="4292640"/>
            <a:ext cx="3095640" cy="211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</a:rPr>
              <a:t>TELEMATIKA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74600" indent="-174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" spc="-1" strike="noStrike">
              <a:solidFill>
                <a:srgbClr val="ffffff"/>
              </a:solidFill>
              <a:latin typeface="Arial"/>
            </a:endParaRPr>
          </a:p>
          <a:p>
            <a:pPr marL="174600" indent="-174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distribuované databáze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74600" indent="-174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redukce informací, znalostní společnost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74600" indent="-174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telematické služby a protokol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74600" indent="-174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řízení sítě a telematických služeb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74600" indent="-174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organizace, architektura, číselní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Zástupný symbol pro zápatí 3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Picture 2" descr="colsys_Stránka_2"/>
          <p:cNvPicPr/>
          <p:nvPr/>
        </p:nvPicPr>
        <p:blipFill>
          <a:blip r:embed="rId1"/>
          <a:stretch/>
        </p:blipFill>
        <p:spPr>
          <a:xfrm>
            <a:off x="1447920" y="1457280"/>
            <a:ext cx="7391160" cy="40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Analýzy reálných řešen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ozložení náklad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Zástupný symbol pro zápatí 3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6" name="Skupina 34"/>
          <p:cNvGrpSpPr/>
          <p:nvPr/>
        </p:nvGrpSpPr>
        <p:grpSpPr>
          <a:xfrm>
            <a:off x="1285920" y="2000160"/>
            <a:ext cx="7779960" cy="3331080"/>
            <a:chOff x="1285920" y="2000160"/>
            <a:chExt cx="7779960" cy="3331080"/>
          </a:xfrm>
        </p:grpSpPr>
        <p:graphicFrame>
          <p:nvGraphicFramePr>
            <p:cNvPr id="127" name="Object 2"/>
            <p:cNvGraphicFramePr/>
            <p:nvPr/>
          </p:nvGraphicFramePr>
          <p:xfrm>
            <a:off x="1450440" y="2182680"/>
            <a:ext cx="4356360" cy="27381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8" name="Object 2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450440" y="2182680"/>
                      <a:ext cx="4356360" cy="2738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9" name="Text Box 7"/>
            <p:cNvSpPr/>
            <p:nvPr/>
          </p:nvSpPr>
          <p:spPr>
            <a:xfrm>
              <a:off x="1591200" y="2061000"/>
              <a:ext cx="2879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>
                  <a:solidFill>
                    <a:srgbClr val="0831a4"/>
                  </a:solidFill>
                  <a:latin typeface="Tahoma"/>
                </a:rPr>
                <a:t>Nesystémový přístup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Text Box 8"/>
            <p:cNvSpPr/>
            <p:nvPr/>
          </p:nvSpPr>
          <p:spPr>
            <a:xfrm>
              <a:off x="5946480" y="2000160"/>
              <a:ext cx="2535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>
                  <a:solidFill>
                    <a:srgbClr val="0831a4"/>
                  </a:solidFill>
                  <a:latin typeface="Tahoma"/>
                </a:rPr>
                <a:t>Systémový přístup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131" name="Object 3"/>
            <p:cNvGraphicFramePr/>
            <p:nvPr/>
          </p:nvGraphicFramePr>
          <p:xfrm>
            <a:off x="5522760" y="2547720"/>
            <a:ext cx="3473640" cy="2383920"/>
          </p:xfrm>
          <a:graphic>
            <a:graphicData uri="http://schemas.openxmlformats.org/presentationml/2006/ole">
              <p:oleObj progId="Excel.Sheet.12" r:id="rId3" spid="">
                <p:embed/>
                <p:pic>
                  <p:nvPicPr>
                    <p:cNvPr id="132" name="Object 3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522760" y="2547720"/>
                      <a:ext cx="3473640" cy="2383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3" name="Text Box 11"/>
            <p:cNvSpPr/>
            <p:nvPr/>
          </p:nvSpPr>
          <p:spPr>
            <a:xfrm>
              <a:off x="5706360" y="4317840"/>
              <a:ext cx="13543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0831a4"/>
                  </a:solidFill>
                  <a:latin typeface="Tahoma"/>
                </a:rPr>
                <a:t>Zpracování 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0831a4"/>
                  </a:solidFill>
                  <a:latin typeface="Tahoma"/>
                </a:rPr>
                <a:t>informace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0831a4"/>
                  </a:solidFill>
                  <a:latin typeface="Tahoma"/>
                </a:rPr>
                <a:t>64%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Text Box 12"/>
            <p:cNvSpPr/>
            <p:nvPr/>
          </p:nvSpPr>
          <p:spPr>
            <a:xfrm>
              <a:off x="7850520" y="4135320"/>
              <a:ext cx="12153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0831a4"/>
                  </a:solidFill>
                  <a:latin typeface="Tahoma"/>
                </a:rPr>
                <a:t>Přenos 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0831a4"/>
                  </a:solidFill>
                  <a:latin typeface="Tahoma"/>
                </a:rPr>
                <a:t>informace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0831a4"/>
                  </a:solidFill>
                  <a:latin typeface="Tahoma"/>
                </a:rPr>
                <a:t>20%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Text Box 13"/>
            <p:cNvSpPr/>
            <p:nvPr/>
          </p:nvSpPr>
          <p:spPr>
            <a:xfrm>
              <a:off x="7850520" y="2601720"/>
              <a:ext cx="12153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0831a4"/>
                  </a:solidFill>
                  <a:latin typeface="Tahoma"/>
                </a:rPr>
                <a:t>Sběr 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0831a4"/>
                  </a:solidFill>
                  <a:latin typeface="Tahoma"/>
                </a:rPr>
                <a:t>informace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0831a4"/>
                  </a:solidFill>
                  <a:latin typeface="Tahoma"/>
                </a:rPr>
                <a:t>16%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Text Box 15"/>
            <p:cNvSpPr/>
            <p:nvPr/>
          </p:nvSpPr>
          <p:spPr>
            <a:xfrm>
              <a:off x="1667160" y="4507200"/>
              <a:ext cx="13543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0831a4"/>
                  </a:solidFill>
                  <a:latin typeface="Tahoma"/>
                </a:rPr>
                <a:t>Zpracování 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0831a4"/>
                  </a:solidFill>
                  <a:latin typeface="Tahoma"/>
                </a:rPr>
                <a:t>informace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0831a4"/>
                  </a:solidFill>
                  <a:latin typeface="Tahoma"/>
                </a:rPr>
                <a:t>36%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Text Box 16"/>
            <p:cNvSpPr/>
            <p:nvPr/>
          </p:nvSpPr>
          <p:spPr>
            <a:xfrm>
              <a:off x="4070520" y="2428560"/>
              <a:ext cx="12153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0831a4"/>
                  </a:solidFill>
                  <a:latin typeface="Tahoma"/>
                </a:rPr>
                <a:t>Přenos 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0831a4"/>
                  </a:solidFill>
                  <a:latin typeface="Tahoma"/>
                </a:rPr>
                <a:t>informace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0831a4"/>
                  </a:solidFill>
                  <a:latin typeface="Tahoma"/>
                </a:rPr>
                <a:t>49%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Text Box 17"/>
            <p:cNvSpPr/>
            <p:nvPr/>
          </p:nvSpPr>
          <p:spPr>
            <a:xfrm>
              <a:off x="1285920" y="2787120"/>
              <a:ext cx="12153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0831a4"/>
                  </a:solidFill>
                  <a:latin typeface="Tahoma"/>
                </a:rPr>
                <a:t>Sběr</a:t>
              </a:r>
              <a:r>
                <a:rPr b="1" lang="cs-CZ" sz="1600" spc="-1" strike="noStrike">
                  <a:solidFill>
                    <a:srgbClr val="0831a4"/>
                  </a:solidFill>
                  <a:latin typeface="Tahoma"/>
                </a:rPr>
                <a:t> 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0831a4"/>
                  </a:solidFill>
                  <a:latin typeface="Tahoma"/>
                </a:rPr>
                <a:t>informace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0831a4"/>
                  </a:solidFill>
                  <a:latin typeface="Tahoma"/>
                </a:rPr>
                <a:t>15%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Rizika nesystémových přístupů a jejich vliv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52520" indent="-452520">
              <a:spcBef>
                <a:spcPts val="4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Absence množiny organizačních a legislativních zása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16640" indent="-450720">
              <a:spcBef>
                <a:spcPts val="45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Špatně zadávací podmínky výběrových říze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16640" indent="-450720">
              <a:spcBef>
                <a:spcPts val="45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ůsledkem jsou vyšší realizační nákla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spcBef>
                <a:spcPts val="4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říčin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16640" indent="-450720">
              <a:spcBef>
                <a:spcPts val="45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ystémové parametr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16640" indent="-450720">
              <a:spcBef>
                <a:spcPts val="45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ednotná informační bá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16640" indent="-450720">
              <a:spcBef>
                <a:spcPts val="45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rušení autorských práv – rozhra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spcBef>
                <a:spcPts val="4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spcBef>
                <a:spcPts val="4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Absence množiny technických a technologických zása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16640" indent="-450720">
              <a:spcBef>
                <a:spcPts val="45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rušení interoperability v národním a evropském kontex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16640" indent="-450720">
              <a:spcBef>
                <a:spcPts val="45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ůsledkem jsou vyšší realizační nákla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spcBef>
                <a:spcPts val="4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říčin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16640" indent="-450720">
              <a:spcBef>
                <a:spcPts val="45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utnost tvorby rozhraní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16640" indent="-450720">
              <a:spcBef>
                <a:spcPts val="45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azba na JSDI, e. coll, nebezpečné nákla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16640" indent="-450720">
              <a:spcBef>
                <a:spcPts val="45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dílení informací - integri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spcBef>
                <a:spcPts val="4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spcBef>
                <a:spcPts val="4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Zástupný symbol pro zápatí 3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Rizika a jejich vliv do ekonomik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rušení zásad systémového přístupu lze očekávat  ekonomické ztráty:  (stejná úroveň služe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rganizační a legislativní = vzrůst nákladů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o 250-400%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echnická oblast – integrita přenosu informací = vzrůst nákladů o 300-40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echnická – sdílení informací v architektuře = vzrůst nákladů o 350-45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Zástupný symbol pro zápatí 3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457200" y="274680"/>
            <a:ext cx="57578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Systémové parametry řešen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43160" indent="-443160">
              <a:spcBef>
                <a:spcPts val="7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Kontinuita (spojitost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6120" indent="-44172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chopnost systému plnit požadované funkce/procesy bez (neplánovaného) přeruše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3160" indent="-443160">
              <a:spcBef>
                <a:spcPts val="7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Integrit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6120" indent="-44172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chopnost systému včasně a bezchybně informovat uživatele, že systém nemůže být použit pro operace daného postu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3160" indent="-443160">
              <a:spcBef>
                <a:spcPts val="7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Bezpečnos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6120" indent="-44172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chopnost systému, že v případě vzniku poruchy nedojde k poškození systému nebo k materiálním ztrátám či ztrátám na lidských životech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Systémové parametry řešen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411480" indent="-41148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Přesnos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24120" indent="-409680">
              <a:spcBef>
                <a:spcPts val="7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hody mezi měřenou a definovanou hodnotou parametru/procesu/funk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1480" indent="-41148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Spolehlivost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24120" indent="-409680">
              <a:spcBef>
                <a:spcPts val="7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chopnost systému plnit požadované funkce bez přerušení během daného postupu v průběhu definovaného časového interval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1480" indent="-41148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Dostupnos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24120" indent="-409680">
              <a:spcBef>
                <a:spcPts val="7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chopnost systému plnit požadované funkce při inicializaci (spuštění) systému/procesu dle daného postup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1480" indent="-41148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3T13:10:03Z</dcterms:created>
  <dc:creator>Vladimír Faltus</dc:creator>
  <dc:description/>
  <dc:language>en-US</dc:language>
  <cp:lastModifiedBy>Pavel Hrubeš</cp:lastModifiedBy>
  <dcterms:modified xsi:type="dcterms:W3CDTF">2009-05-13T12:51:03Z</dcterms:modified>
  <cp:revision>68</cp:revision>
  <dc:subject/>
  <dc:title>K620 - služby v oblasti Řízení dopravy</dc:title>
</cp:coreProperties>
</file>