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5.wmf" ContentType="image/x-wmf"/>
  <Override PartName="/ppt/media/image2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13.jpeg" ContentType="image/jpe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993600" y="769680"/>
            <a:ext cx="511200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58CD-404A-4D14-9824-F957543A40F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910F-A67F-4E9D-9A21-DAFB60C2799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A4321-F0A5-480B-92A8-63708EFE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11FAC-FFE5-4261-993F-BDE40C22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DB07F-DB63-4AF8-8CA7-A5241EF6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C6C45-10FC-41EA-B136-13C6EB70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C84FB-318F-4F97-B36A-0D9086E3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57BC7-1B2D-46D3-8381-7EC75750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457E2-A96C-457D-A192-DFACE303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CD5B6-BE63-4F47-9F9C-968F0873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D318B-B68A-4EFD-AFBE-1448EFAB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44620-A758-4640-A785-F8878667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2BACC-B65C-407D-AAC6-E4767E3F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62770-46B5-4C82-AC2C-572897B2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11A9F-C535-4E30-872D-49E71FAF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B5A92-B738-46BD-BF85-7AF8B76A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42B1D-3432-4318-8829-B2F355B5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6A047-1C78-428B-8BE4-34812B74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135F7-AFB3-49C1-8453-9EFD62C0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225C1-4F59-4CC3-90ED-32828259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B99F5-2319-4F31-BD9E-B7E82BFA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82EA3-AFB3-48D9-959F-BEA718FD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415FD-A893-461C-A6B6-379FC5D1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65BF7-5A43-4291-BC12-22859550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4E7F6-CB51-4EFB-A0D4-D797CA59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4F2B0-8226-434B-963F-7461C020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7DFB7-7576-4F93-98D9-FC585EC5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CCE75-2EE8-48F4-99DD-8B112C5F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D9496-4052-416D-B1B4-5BB52443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8927D-9ED3-44AC-9DF2-2072A14B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30B1D-EA5D-4DCB-BA1E-C03FEAC3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E39FE-E91B-40E4-9343-3DAD767A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72F5A-41EE-4F20-B669-4CB50CD3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3DB3D-0462-45E9-AB62-D3F5CD24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DE09B-E392-489E-87EF-C10DDEF9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DF73F-301E-45BE-AD10-393ABCBC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0E594-E387-485B-AF1D-39749921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7020E-5B02-4398-8DD5-AA2A262F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8B706-196B-4745-9384-B40A2C38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6DE1F-D106-4AC6-995E-1D6128CF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21372-83BA-413C-9738-74BA0946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B8FD7-13AA-440E-B8AB-43EDC972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6EF71-EB88-4524-B32E-FDE7F194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FE404-19E9-40DA-A17F-FB671D71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FAB68-334B-44A0-B34D-B252F456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B81B0-BE45-49DB-B673-A919127F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7F393-E286-43A2-BE39-D23F9066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F9522-4920-4697-B428-3D502F5A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A8962-A95C-4F4E-833C-05385369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47F88-9E2B-4A7D-9B7F-89B1163A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65275-D67B-4C2A-A9F4-A2CB46B5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3AFC7-831F-4640-8976-47BCFC9C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AA99-3B6F-4859-B3FB-8DDC4298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46ED-1993-46AC-AB56-07F61B8E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99C7-83DF-4CF4-94B5-63B313A8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7434-9039-482D-87C5-1B3460ED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18A7-7331-4B3B-AD4E-193D785A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7A3D6-7C12-4AE4-AB16-F35A533C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BFC1-4C35-40D2-B089-0370DDFB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FB1A-33A0-4737-8410-644F7C90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49A0-9AF3-4DC9-99A9-DC764F9D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FB84-16E5-4969-833C-0EE66046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F143-0C9E-4510-8E9A-C9BB7956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8098-5A5B-4A47-AAF7-603306AB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1904-A1AD-4396-8FBE-BB26BBF1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7FC78-C984-4A55-95EC-C7D320C7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E3C7C-32D9-433E-AABF-B7812E23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D2C0C-EAB8-4B00-88F2-2ADEE696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46E0A-62CA-4B96-91B5-EA19358F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242BD-A37B-4655-B379-6F02BC34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CC1BA-7F09-496B-8A70-49D0A581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B45D3-369A-4819-A7FA-60DF201B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A6161-0E77-4BA6-A16F-3B02825A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D3CFF-3538-4D77-AE01-F49953C9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F499E-9433-4BE3-A53D-D5175E07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2C600-5685-4734-85ED-B406F625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65C88-CDF7-4046-ADA3-FA8FBE7C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3DB12-59C2-462E-AC3E-F4F94E48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9B394-7A4C-42A8-83EF-8A68D367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48708-DB73-4DAF-B9A4-A7CDDBBE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091C1-A5E6-41DD-BBC8-9AEAC0A1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5891F-11E7-4B47-A27A-C0970DA4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2A0F8-6F64-4F15-8758-93E66FD7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BE6E7-1AEF-413B-99DE-C1979192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642B0-7543-493C-97E0-7F72CEF6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D02D4-95AB-4E86-BA83-616DF833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91E21-55BF-47F5-8A42-0FB3FC2F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AA17A-D3FD-4174-A982-1BA04841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2CCEF-CD08-4DDC-99AC-87B6A5BB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37B9C-2E74-4129-8EAA-492293D7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DA3D4-8706-45E1-B137-39404F5E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3EAD0-3B45-4595-A88E-6AE1B754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E5079-AB1A-436C-8B53-B88B8994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FE9A1-3BB0-41FF-8562-2AF58A59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430E3-E5F0-43DE-BEAA-12DEA117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3960E-DCE0-487D-B738-BCE634CA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FF7BB-6E4A-4656-B403-D55F9CC0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361A9-5D7B-49A1-922A-0B66E82F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ED96C-7A08-4DB9-A9EA-4514D90C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83068-49D3-46FC-B291-6D18DD3A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FA276-630A-4F30-AF92-EC4B79B5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046A1-2481-4789-9E0D-2589A738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B9EAC-F245-4745-8543-9B130182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C3B6D-A0D4-4FC0-9817-9CBC7DDA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D8FE1-E31F-406D-8D11-3028E826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ACBAB-8A12-416A-BCEA-B79FFE8B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31238-B2CF-4A59-947E-C93BFF46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7ECF4-69D5-4AA2-918A-581A5812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A47FF-EF11-497E-A491-13C09A48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2DBF6-0050-4B43-BA54-09FC1229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4DA1B-10E6-4571-A208-21B63112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7A4FA-6F93-496F-AD9C-56CD4217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D5138-2039-442D-AA05-C0EAED41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5B6AB-0F48-49E1-BA00-D6EDC402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51BFD-8BFC-4BA1-8C29-E4A89673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9B82E-52A1-4CCE-97AA-12AA6672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38752-BEA1-4F85-933F-A1DB54EF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74829-5D85-440F-9300-78484C7E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37888-B2AB-48FC-8881-4F0DE9CC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B05D2-90AB-49A1-9DE9-4B7D7910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1DEF3-35A2-4483-90A4-8A59AF93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99C09-4C4B-4826-97A5-D65C1ABF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76C12-7439-43F6-A563-7FC1271E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4C50-F97F-4212-9E65-8CFEDFCB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517E9-57BA-4AB8-A36A-D0D6B9CF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B94D5-50FD-4043-9E51-64C6F75C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28B8D-1588-49AC-8FEC-4EA60214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FE5D2-4701-419F-B05C-BFF666CB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452BD-7960-4C90-AE5C-34EC5096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893AF-C23B-4D23-A5EA-9462B101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1884B-3644-4E73-A667-97294DC4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849F2-A7CF-4AAC-99E6-C1C76AA9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D0675-2367-4926-B5FB-26AA6126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6D66A-CE3A-4082-8145-95C30153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1FFF-7E42-4477-955F-DB9BDECCF4B5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3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6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7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CE31-2646-4692-8D59-A12D40885ACE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8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8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9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30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F82D-1D8A-42E0-B706-87F8B013B03A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1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52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3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2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66BA-E5AA-408F-9A7A-1F2F82C1716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56600" cy="6902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952880" y="685800"/>
            <a:ext cx="33530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Praze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74720" cy="5860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876920" y="169380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Fakulta dopravní 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876920" y="24210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31a4"/>
                </a:solidFill>
                <a:latin typeface="Arial"/>
              </a:rPr>
              <a:t>Ústav řídicí techniky a telematiky</a:t>
            </a: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9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2433-E84D-48D6-8CD0-5104504BC240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4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8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6598-D92C-4A79-BD39-8456DA39536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0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9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0368-B6F0-4D39-87FD-6B2E7EB265BA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4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AD39-0031-4DC5-9833-D4B931C24B8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6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8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7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A288-AD33-4EC0-BB68-D51D3103BDE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9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3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21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247B-9DC1-4602-847D-5A6C88969EF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2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8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3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4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CD76-6463-45A0-8CC5-B17CB1B6C66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5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03640" y="3284640"/>
            <a:ext cx="360072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 CE"/>
              </a:rPr>
              <a:t>Navigační a identifikační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ovéPole 3"/>
          <p:cNvSpPr/>
          <p:nvPr/>
        </p:nvSpPr>
        <p:spPr>
          <a:xfrm>
            <a:off x="5000760" y="5214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CE"/>
              </a:rPr>
              <a:t>Petr Bureš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přepravy nebezpečných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, sledování, plánování a záchranné práce, propojení na další informační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0" name="Picture 3" descr="naklady5%20copy3"/>
          <p:cNvPicPr/>
          <p:nvPr/>
        </p:nvPicPr>
        <p:blipFill>
          <a:blip r:embed="rId1"/>
          <a:stretch/>
        </p:blipFill>
        <p:spPr>
          <a:xfrm>
            <a:off x="5429160" y="3857760"/>
            <a:ext cx="3375000" cy="20286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3643200" y="3681360"/>
            <a:ext cx="387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2" name="Picture 10" descr="IMG_0513"/>
          <p:cNvPicPr/>
          <p:nvPr/>
        </p:nvPicPr>
        <p:blipFill>
          <a:blip r:embed="rId2"/>
          <a:stretch/>
        </p:blipFill>
        <p:spPr>
          <a:xfrm>
            <a:off x="1785960" y="3500280"/>
            <a:ext cx="32670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3" name="Object 6"/>
          <p:cNvGraphicFramePr/>
          <p:nvPr/>
        </p:nvGraphicFramePr>
        <p:xfrm>
          <a:off x="4786200" y="4429080"/>
          <a:ext cx="10479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4429080"/>
                    <a:ext cx="1047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sledování a řízení pohybu prostřednictvím GN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u po letištní ploše, propojení s řídícím centrem, výběr komunikačního prostředí, zabezpečení, testování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8" name="Picture 2" descr="image010"/>
          <p:cNvPicPr/>
          <p:nvPr/>
        </p:nvPicPr>
        <p:blipFill>
          <a:blip r:embed="rId1"/>
          <a:stretch/>
        </p:blipFill>
        <p:spPr>
          <a:xfrm>
            <a:off x="1857240" y="3929040"/>
            <a:ext cx="3159360" cy="2143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5715000" y="3857760"/>
            <a:ext cx="17146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Zástupný symbol pro zápatí 5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sah Prezent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pojení ústav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dynamické navig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telitní systémy elektronického mýtnéh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pro sledování přepravy nebezpečných náklad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ladní informace o projek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tav se podílí na projektech v rámci laboratoře e-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entsk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tematicky zaměřené projekty (navigace, dopravní informace a identifik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n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VaV MD ČR (dopravní informace, monitorování 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TP MPO ČR (identifikace, telematická jedno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popisu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áty a struktura protokolů DATEX2, TMC, TPEG, a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5613480" y="2786040"/>
            <a:ext cx="3530520" cy="2104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2" name="Picture 2" descr="bla2"/>
          <p:cNvPicPr/>
          <p:nvPr/>
        </p:nvPicPr>
        <p:blipFill>
          <a:blip r:embed="rId2"/>
          <a:stretch/>
        </p:blipFill>
        <p:spPr>
          <a:xfrm>
            <a:off x="4500720" y="4071960"/>
            <a:ext cx="2207880" cy="2122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3" name="Picture 8" descr="tmcmsg.jpg"/>
          <p:cNvPicPr/>
          <p:nvPr/>
        </p:nvPicPr>
        <p:blipFill>
          <a:blip r:embed="rId3"/>
          <a:stretch/>
        </p:blipFill>
        <p:spPr>
          <a:xfrm>
            <a:off x="1500120" y="2786040"/>
            <a:ext cx="3500640" cy="2630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428480" y="85716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lokalizace dopravních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dynamický popis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zba DI do mapového pod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2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9" descr="lt_stn_link"/>
          <p:cNvPicPr/>
          <p:nvPr/>
        </p:nvPicPr>
        <p:blipFill>
          <a:blip r:embed="rId1"/>
          <a:stretch/>
        </p:blipFill>
        <p:spPr>
          <a:xfrm>
            <a:off x="1643040" y="3286080"/>
            <a:ext cx="3643200" cy="2587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2"/>
          <a:stretch/>
        </p:blipFill>
        <p:spPr>
          <a:xfrm>
            <a:off x="3786120" y="3214800"/>
            <a:ext cx="4098960" cy="2746440"/>
          </a:xfrm>
          <a:prstGeom prst="rect">
            <a:avLst/>
          </a:prstGeom>
          <a:ln w="0">
            <a:noFill/>
          </a:ln>
        </p:spPr>
      </p:pic>
      <p:grpSp>
        <p:nvGrpSpPr>
          <p:cNvPr id="599" name="Skupina 17"/>
          <p:cNvGrpSpPr/>
          <p:nvPr/>
        </p:nvGrpSpPr>
        <p:grpSpPr>
          <a:xfrm>
            <a:off x="3786120" y="3214800"/>
            <a:ext cx="4006800" cy="2738160"/>
            <a:chOff x="3786120" y="3214800"/>
            <a:chExt cx="4006800" cy="2738160"/>
          </a:xfrm>
        </p:grpSpPr>
        <p:sp>
          <p:nvSpPr>
            <p:cNvPr id="600" name="Obdélník 11"/>
            <p:cNvSpPr/>
            <p:nvPr/>
          </p:nvSpPr>
          <p:spPr>
            <a:xfrm>
              <a:off x="3917880" y="4751280"/>
              <a:ext cx="3583080" cy="1035000"/>
            </a:xfrm>
            <a:prstGeom prst="rect">
              <a:avLst/>
            </a:prstGeom>
            <a:noFill/>
            <a:ln w="25560">
              <a:solidFill>
                <a:srgbClr val="c9dd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grpSp>
          <p:nvGrpSpPr>
            <p:cNvPr id="601" name="Skupina 17"/>
            <p:cNvGrpSpPr/>
            <p:nvPr/>
          </p:nvGrpSpPr>
          <p:grpSpPr>
            <a:xfrm>
              <a:off x="3786120" y="3214800"/>
              <a:ext cx="4006800" cy="2738160"/>
              <a:chOff x="3786120" y="3214800"/>
              <a:chExt cx="4006800" cy="2738160"/>
            </a:xfrm>
          </p:grpSpPr>
          <p:sp>
            <p:nvSpPr>
              <p:cNvPr id="602" name="Obdélník 12"/>
              <p:cNvSpPr/>
              <p:nvPr/>
            </p:nvSpPr>
            <p:spPr>
              <a:xfrm>
                <a:off x="3786120" y="3214800"/>
                <a:ext cx="4006800" cy="153144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3" name="Obdélník 14"/>
              <p:cNvSpPr/>
              <p:nvPr/>
            </p:nvSpPr>
            <p:spPr>
              <a:xfrm>
                <a:off x="3786120" y="4746240"/>
                <a:ext cx="1368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4" name="Obdélník 15"/>
              <p:cNvSpPr/>
              <p:nvPr/>
            </p:nvSpPr>
            <p:spPr>
              <a:xfrm>
                <a:off x="3786120" y="5779800"/>
                <a:ext cx="4006800" cy="17316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5" name="Obdélník 16"/>
              <p:cNvSpPr/>
              <p:nvPr/>
            </p:nvSpPr>
            <p:spPr>
              <a:xfrm>
                <a:off x="7512480" y="4746240"/>
                <a:ext cx="2772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</p:grpSp>
      <p:pic>
        <p:nvPicPr>
          <p:cNvPr id="606" name="Picture 2" descr="aplagora"/>
          <p:cNvPicPr/>
          <p:nvPr/>
        </p:nvPicPr>
        <p:blipFill>
          <a:blip r:embed="rId3"/>
          <a:stretch/>
        </p:blipFill>
        <p:spPr>
          <a:xfrm>
            <a:off x="6072120" y="3429000"/>
            <a:ext cx="2836800" cy="2338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3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vysílání, příjmu a vizualizace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řenosových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funkčnosti navig. pří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0" name="Obrázek 9" descr="p118_Mio.jpg"/>
          <p:cNvPicPr/>
          <p:nvPr/>
        </p:nvPicPr>
        <p:blipFill>
          <a:blip r:embed="rId1"/>
          <a:stretch/>
        </p:blipFill>
        <p:spPr>
          <a:xfrm>
            <a:off x="5357880" y="4143240"/>
            <a:ext cx="3565440" cy="199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1" name="Picture 2" descr="P1370210"/>
          <p:cNvPicPr/>
          <p:nvPr/>
        </p:nvPicPr>
        <p:blipFill>
          <a:blip r:embed="rId2"/>
          <a:stretch/>
        </p:blipFill>
        <p:spPr>
          <a:xfrm>
            <a:off x="1428840" y="3714840"/>
            <a:ext cx="3692520" cy="2401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2" name="Picture 3" descr=""/>
          <p:cNvPicPr/>
          <p:nvPr/>
        </p:nvPicPr>
        <p:blipFill>
          <a:blip r:embed="rId3"/>
          <a:srcRect l="0" t="16339" r="0" b="13465"/>
          <a:stretch/>
        </p:blipFill>
        <p:spPr>
          <a:xfrm>
            <a:off x="3714840" y="3214800"/>
            <a:ext cx="3200400" cy="168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identif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ředky ident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zabezpečení identif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telematických aplik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FC, E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R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1"/>
          <a:stretch/>
        </p:blipFill>
        <p:spPr>
          <a:xfrm>
            <a:off x="5857920" y="3857760"/>
            <a:ext cx="2552760" cy="2038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2071800" y="3929040"/>
            <a:ext cx="3429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architektury systému mýtn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satelitní systém, hybrid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hybridního systému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národních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em (C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1" name="Picture 5" descr="PC130011"/>
          <p:cNvPicPr/>
          <p:nvPr/>
        </p:nvPicPr>
        <p:blipFill>
          <a:blip r:embed="rId1"/>
          <a:stretch/>
        </p:blipFill>
        <p:spPr>
          <a:xfrm>
            <a:off x="4786200" y="3643200"/>
            <a:ext cx="39290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universální telematické jedno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funkcí, rozhraní a přenosový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proto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5" name="Picture 5" descr="architecture"/>
          <p:cNvPicPr/>
          <p:nvPr/>
        </p:nvPicPr>
        <p:blipFill>
          <a:blip r:embed="rId1"/>
          <a:stretch/>
        </p:blipFill>
        <p:spPr>
          <a:xfrm>
            <a:off x="4714920" y="3857760"/>
            <a:ext cx="4178160" cy="1823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9289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1:12:06Z</dcterms:created>
  <dc:creator>jakub</dc:creator>
  <dc:description/>
  <dc:language>en-US</dc:language>
  <cp:lastModifiedBy>Pavel Hrubeš</cp:lastModifiedBy>
  <dcterms:modified xsi:type="dcterms:W3CDTF">2009-05-13T07:50:00Z</dcterms:modified>
  <cp:revision>136</cp:revision>
  <dc:subject/>
  <dc:title>Work Package 6</dc:title>
</cp:coreProperties>
</file>